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7650-516A-4BE0-8224-55190039253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42C7-5F47-415B-B76A-91D22013772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93C7-3B70-4AAE-95EC-3662C01D592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987B-CFFA-411A-AA9B-5FE921DFC75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3A7B-D981-44CA-A306-CC275A6D010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20DC-67AA-407F-A41E-135D8ED256A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5C89-E548-4FB3-94A8-CDF8DAFE590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6A42-3150-40CA-9791-BAD8BC7DBE5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A461-410F-41BF-B392-E7A6D0A48A4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DE8-70C4-487C-ADFA-62A4B350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E2B-B387-4B89-9AC9-C08B9DE1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B87-4C17-458C-90A7-DB01E03A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F89-1AF6-42CC-858F-1147ED04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668-B7BE-4967-A9EE-76E89D87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595-55CD-4632-9BB2-F6C8128A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BB33-5B02-40A6-8121-82BCC624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8D3-7BB4-47B6-B2F2-9BE0A783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58C-DA70-464B-BB5F-8CE64809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4B2-E260-4673-B47A-FCCB6DC7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DE0-6788-468F-BF5B-B8960B1D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D5F-C31A-485E-A3C1-604EC626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rot="16200000">
            <a:off x="-3009600" y="3390840"/>
            <a:ext cx="6477120" cy="457200"/>
          </a:xfrm>
          <a:prstGeom prst="rect">
            <a:avLst/>
          </a:prstGeom>
          <a:gradFill rotWithShape="0">
            <a:gsLst>
              <a:gs pos="0">
                <a:srgbClr val="042148">
                  <a:alpha val="0"/>
                </a:srgbClr>
              </a:gs>
              <a:gs pos="100000">
                <a:srgbClr val="08479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5" descr="inpe_logo"/>
          <p:cNvPicPr/>
          <p:nvPr/>
        </p:nvPicPr>
        <p:blipFill>
          <a:blip r:embed="rId2"/>
          <a:stretch/>
        </p:blipFill>
        <p:spPr>
          <a:xfrm>
            <a:off x="0" y="0"/>
            <a:ext cx="7621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4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</p:grpSp>
      <p:pic>
        <p:nvPicPr>
          <p:cNvPr id="54" name="Picture 20" descr="logocomp"/>
          <p:cNvPicPr/>
          <p:nvPr/>
        </p:nvPicPr>
        <p:blipFill>
          <a:blip r:embed="rId2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2402-372C-4E14-B058-E06EB4C85FA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  <a:ea typeface="Geneva"/>
              </a:rPr>
              <a:t>Sugarscape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Geneva"/>
              </a:rPr>
              <a:t>Pedro Andra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Geneva"/>
              </a:rPr>
              <a:t>Gilberto Câma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ＭＳ Ｐゴシック"/>
              </a:rPr>
              <a:t>Simple Agen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900000" y="1484280"/>
            <a:ext cx="7993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ximum sugar between 0 and 4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ch cell produces one unit of sugar by time step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ch agent starts with initial sugar of 10 and needs one sugar per time step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ok for a random neighbor and moves whenever it has more sugar than the current cell to eat.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tSugar(“default.sugar”) -- logo package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ttribute “maxSugar”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ＭＳ Ｐゴシック"/>
              </a:rPr>
              <a:t>More complex Agen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611280" y="1341360"/>
            <a:ext cx="84614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ok for all neighbors and moves to the empty one that has more sugar.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itial wealth (sugar) between 5 and 25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tabolism between 1 and 4 sugar per each step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ge starting with zero and increasing by one per time step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e by age (maximum age between 60 and 100)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e by absence of wealth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enever it dies, creates another agent and put it in a random cell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ＭＳ Ｐゴシック"/>
              </a:rPr>
              <a:t>Changes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900000" y="1628640"/>
            <a:ext cx="79930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at happens with the average wealth and average age when the number of agents grow?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ＭＳ Ｐゴシック"/>
              </a:rPr>
              <a:t>Agent-Based Modelling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561760" y="3016080"/>
            <a:ext cx="6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000" algn="ctr">
              <a:lnSpc>
                <a:spcPts val="216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27000" algn="ctr">
              <a:lnSpc>
                <a:spcPts val="216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625320" y="2817720"/>
            <a:ext cx="8518320" cy="3451320"/>
            <a:chOff x="625320" y="2817720"/>
            <a:chExt cx="8518320" cy="3451320"/>
          </a:xfrm>
        </p:grpSpPr>
        <p:grpSp>
          <p:nvGrpSpPr>
            <p:cNvPr id="108" name="Group 11"/>
            <p:cNvGrpSpPr/>
            <p:nvPr/>
          </p:nvGrpSpPr>
          <p:grpSpPr>
            <a:xfrm>
              <a:off x="625320" y="2817720"/>
              <a:ext cx="8518320" cy="3056040"/>
              <a:chOff x="625320" y="2817720"/>
              <a:chExt cx="8518320" cy="3056040"/>
            </a:xfrm>
          </p:grpSpPr>
          <p:sp>
            <p:nvSpPr>
              <p:cNvPr id="109" name="Freeform 12"/>
              <p:cNvSpPr/>
              <p:nvPr/>
            </p:nvSpPr>
            <p:spPr>
              <a:xfrm>
                <a:off x="625320" y="2817720"/>
                <a:ext cx="8505720" cy="3041640"/>
              </a:xfrm>
              <a:custGeom>
                <a:avLst/>
                <a:gdLst>
                  <a:gd name="textAreaLeft" fmla="*/ 0 w 8505720"/>
                  <a:gd name="textAreaRight" fmla="*/ 8506080 w 8505720"/>
                  <a:gd name="textAreaTop" fmla="*/ 0 h 3041640"/>
                  <a:gd name="textAreaBottom" fmla="*/ 3042000 h 30416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9" y="0"/>
                    </a:lnTo>
                    <a:lnTo>
                      <a:pt x="10000" y="0"/>
                    </a:lnTo>
                    <a:lnTo>
                      <a:pt x="6330" y="10000"/>
                    </a:lnTo>
                    <a:lnTo>
                      <a:pt x="0" y="10000"/>
                    </a:lnTo>
                  </a:path>
                </a:pathLst>
              </a:custGeom>
              <a:gradFill rotWithShape="0">
                <a:gsLst>
                  <a:gs pos="0">
                    <a:srgbClr val="e2bdff"/>
                  </a:gs>
                  <a:gs pos="100000">
                    <a:srgbClr val="fd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10" name="Freeform 13"/>
              <p:cNvSpPr/>
              <p:nvPr/>
            </p:nvSpPr>
            <p:spPr>
              <a:xfrm>
                <a:off x="625320" y="2819520"/>
                <a:ext cx="8518320" cy="3054240"/>
              </a:xfrm>
              <a:custGeom>
                <a:avLst/>
                <a:gdLst>
                  <a:gd name="textAreaLeft" fmla="*/ 0 w 8518320"/>
                  <a:gd name="textAreaRight" fmla="*/ 8518680 w 8518320"/>
                  <a:gd name="textAreaTop" fmla="*/ 0 h 3054240"/>
                  <a:gd name="textAreaBottom" fmla="*/ 3054600 h 30542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70" y="0"/>
                    </a:lnTo>
                    <a:lnTo>
                      <a:pt x="10000" y="0"/>
                    </a:lnTo>
                    <a:lnTo>
                      <a:pt x="6329" y="10000"/>
                    </a:lnTo>
                    <a:lnTo>
                      <a:pt x="0" y="10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11" name="Group 14"/>
            <p:cNvGrpSpPr/>
            <p:nvPr/>
          </p:nvGrpSpPr>
          <p:grpSpPr>
            <a:xfrm>
              <a:off x="1695240" y="5445000"/>
              <a:ext cx="2043000" cy="824040"/>
              <a:chOff x="1695240" y="5445000"/>
              <a:chExt cx="2043000" cy="824040"/>
            </a:xfrm>
          </p:grpSpPr>
          <p:sp>
            <p:nvSpPr>
              <p:cNvPr id="112" name="Freeform 15"/>
              <p:cNvSpPr/>
              <p:nvPr/>
            </p:nvSpPr>
            <p:spPr>
              <a:xfrm>
                <a:off x="1695240" y="5472000"/>
                <a:ext cx="2043000" cy="453960"/>
              </a:xfrm>
              <a:custGeom>
                <a:avLst/>
                <a:gdLst>
                  <a:gd name="textAreaLeft" fmla="*/ 0 w 2043000"/>
                  <a:gd name="textAreaRight" fmla="*/ 2043360 w 204300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13" name="Text Box 16"/>
              <p:cNvSpPr/>
              <p:nvPr/>
            </p:nvSpPr>
            <p:spPr>
              <a:xfrm>
                <a:off x="1698480" y="5445000"/>
                <a:ext cx="1809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874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Environment</a:t>
                </a:r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874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14" name="Group 17"/>
          <p:cNvGrpSpPr/>
          <p:nvPr/>
        </p:nvGrpSpPr>
        <p:grpSpPr>
          <a:xfrm>
            <a:off x="3216240" y="2981160"/>
            <a:ext cx="4522680" cy="1292040"/>
            <a:chOff x="3216240" y="2981160"/>
            <a:chExt cx="4522680" cy="1292040"/>
          </a:xfrm>
        </p:grpSpPr>
        <p:grpSp>
          <p:nvGrpSpPr>
            <p:cNvPr id="115" name="Group 18"/>
            <p:cNvGrpSpPr/>
            <p:nvPr/>
          </p:nvGrpSpPr>
          <p:grpSpPr>
            <a:xfrm>
              <a:off x="3216240" y="2981160"/>
              <a:ext cx="1246320" cy="1216080"/>
              <a:chOff x="3216240" y="2981160"/>
              <a:chExt cx="1246320" cy="1216080"/>
            </a:xfrm>
          </p:grpSpPr>
          <p:sp>
            <p:nvSpPr>
              <p:cNvPr id="116" name="Freeform 19"/>
              <p:cNvSpPr/>
              <p:nvPr/>
            </p:nvSpPr>
            <p:spPr>
              <a:xfrm>
                <a:off x="3216240" y="2981160"/>
                <a:ext cx="1246320" cy="1216080"/>
              </a:xfrm>
              <a:custGeom>
                <a:avLst/>
                <a:gdLst>
                  <a:gd name="textAreaLeft" fmla="*/ 0 w 1246320"/>
                  <a:gd name="textAreaRight" fmla="*/ 1246680 w 124632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209" y="0"/>
                    </a:moveTo>
                    <a:lnTo>
                      <a:pt x="8790" y="0"/>
                    </a:lnTo>
                    <a:cubicBezTo>
                      <a:pt x="9458" y="0"/>
                      <a:pt x="10000" y="555"/>
                      <a:pt x="10000" y="1239"/>
                    </a:cubicBezTo>
                    <a:lnTo>
                      <a:pt x="10000" y="8760"/>
                    </a:lnTo>
                    <a:cubicBezTo>
                      <a:pt x="10000" y="9444"/>
                      <a:pt x="9458" y="10000"/>
                      <a:pt x="8790" y="10000"/>
                    </a:cubicBezTo>
                    <a:lnTo>
                      <a:pt x="1209" y="10000"/>
                    </a:lnTo>
                    <a:cubicBezTo>
                      <a:pt x="541" y="10000"/>
                      <a:pt x="0" y="9444"/>
                      <a:pt x="0" y="8760"/>
                    </a:cubicBezTo>
                    <a:lnTo>
                      <a:pt x="0" y="1239"/>
                    </a:lnTo>
                    <a:cubicBezTo>
                      <a:pt x="0" y="555"/>
                      <a:pt x="541" y="0"/>
                      <a:pt x="1209" y="0"/>
                    </a:cubicBezTo>
                    <a:close/>
                    <a:moveTo>
                      <a:pt x="1209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grpSp>
            <p:nvGrpSpPr>
              <p:cNvPr id="117" name="Group 20"/>
              <p:cNvGrpSpPr/>
              <p:nvPr/>
            </p:nvGrpSpPr>
            <p:grpSpPr>
              <a:xfrm>
                <a:off x="3657600" y="3101760"/>
                <a:ext cx="368280" cy="982440"/>
                <a:chOff x="3657600" y="3101760"/>
                <a:chExt cx="368280" cy="982440"/>
              </a:xfrm>
            </p:grpSpPr>
            <p:sp>
              <p:nvSpPr>
                <p:cNvPr id="118" name="Freeform 21"/>
                <p:cNvSpPr/>
                <p:nvPr/>
              </p:nvSpPr>
              <p:spPr>
                <a:xfrm>
                  <a:off x="3657600" y="3290760"/>
                  <a:ext cx="368280" cy="793440"/>
                </a:xfrm>
                <a:custGeom>
                  <a:avLst/>
                  <a:gdLst>
                    <a:gd name="textAreaLeft" fmla="*/ 0 w 368280"/>
                    <a:gd name="textAreaRight" fmla="*/ 368640 w 368280"/>
                    <a:gd name="textAreaTop" fmla="*/ 0 h 793440"/>
                    <a:gd name="textAreaBottom" fmla="*/ 793800 h 79344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89" y="0"/>
                      </a:moveTo>
                      <a:lnTo>
                        <a:pt x="7654" y="0"/>
                      </a:lnTo>
                      <a:lnTo>
                        <a:pt x="7831" y="0"/>
                      </a:lnTo>
                      <a:lnTo>
                        <a:pt x="7964" y="20"/>
                      </a:lnTo>
                      <a:lnTo>
                        <a:pt x="8097" y="20"/>
                      </a:lnTo>
                      <a:lnTo>
                        <a:pt x="8185" y="40"/>
                      </a:lnTo>
                      <a:lnTo>
                        <a:pt x="8318" y="60"/>
                      </a:lnTo>
                      <a:lnTo>
                        <a:pt x="8495" y="60"/>
                      </a:lnTo>
                      <a:lnTo>
                        <a:pt x="8628" y="80"/>
                      </a:lnTo>
                      <a:lnTo>
                        <a:pt x="8761" y="120"/>
                      </a:lnTo>
                      <a:lnTo>
                        <a:pt x="8849" y="140"/>
                      </a:lnTo>
                      <a:lnTo>
                        <a:pt x="8982" y="160"/>
                      </a:lnTo>
                      <a:lnTo>
                        <a:pt x="9159" y="220"/>
                      </a:lnTo>
                      <a:lnTo>
                        <a:pt x="9292" y="260"/>
                      </a:lnTo>
                      <a:lnTo>
                        <a:pt x="9380" y="300"/>
                      </a:lnTo>
                      <a:lnTo>
                        <a:pt x="9557" y="360"/>
                      </a:lnTo>
                      <a:lnTo>
                        <a:pt x="9646" y="420"/>
                      </a:lnTo>
                      <a:lnTo>
                        <a:pt x="9734" y="480"/>
                      </a:lnTo>
                      <a:lnTo>
                        <a:pt x="9867" y="560"/>
                      </a:lnTo>
                      <a:lnTo>
                        <a:pt x="9911" y="620"/>
                      </a:lnTo>
                      <a:lnTo>
                        <a:pt x="10000" y="700"/>
                      </a:lnTo>
                      <a:lnTo>
                        <a:pt x="10000" y="760"/>
                      </a:lnTo>
                      <a:lnTo>
                        <a:pt x="10000" y="840"/>
                      </a:lnTo>
                      <a:lnTo>
                        <a:pt x="10000" y="4540"/>
                      </a:lnTo>
                      <a:lnTo>
                        <a:pt x="9955" y="4580"/>
                      </a:lnTo>
                      <a:lnTo>
                        <a:pt x="9911" y="4620"/>
                      </a:lnTo>
                      <a:lnTo>
                        <a:pt x="9911" y="4680"/>
                      </a:lnTo>
                      <a:lnTo>
                        <a:pt x="9867" y="4700"/>
                      </a:lnTo>
                      <a:lnTo>
                        <a:pt x="9778" y="4760"/>
                      </a:lnTo>
                      <a:lnTo>
                        <a:pt x="9690" y="4800"/>
                      </a:lnTo>
                      <a:lnTo>
                        <a:pt x="9557" y="4840"/>
                      </a:lnTo>
                      <a:lnTo>
                        <a:pt x="9424" y="4880"/>
                      </a:lnTo>
                      <a:lnTo>
                        <a:pt x="9380" y="4900"/>
                      </a:lnTo>
                      <a:lnTo>
                        <a:pt x="9247" y="4900"/>
                      </a:lnTo>
                      <a:lnTo>
                        <a:pt x="9115" y="4900"/>
                      </a:lnTo>
                      <a:lnTo>
                        <a:pt x="8982" y="4900"/>
                      </a:lnTo>
                      <a:lnTo>
                        <a:pt x="8849" y="4900"/>
                      </a:lnTo>
                      <a:lnTo>
                        <a:pt x="8716" y="4860"/>
                      </a:lnTo>
                      <a:lnTo>
                        <a:pt x="8628" y="4860"/>
                      </a:lnTo>
                      <a:lnTo>
                        <a:pt x="8539" y="4820"/>
                      </a:lnTo>
                      <a:lnTo>
                        <a:pt x="8495" y="4780"/>
                      </a:lnTo>
                      <a:lnTo>
                        <a:pt x="8407" y="4740"/>
                      </a:lnTo>
                      <a:lnTo>
                        <a:pt x="8362" y="4700"/>
                      </a:lnTo>
                      <a:lnTo>
                        <a:pt x="8274" y="4680"/>
                      </a:lnTo>
                      <a:lnTo>
                        <a:pt x="8274" y="4640"/>
                      </a:lnTo>
                      <a:lnTo>
                        <a:pt x="8230" y="4600"/>
                      </a:lnTo>
                      <a:lnTo>
                        <a:pt x="8230" y="4580"/>
                      </a:lnTo>
                      <a:lnTo>
                        <a:pt x="8185" y="4520"/>
                      </a:lnTo>
                      <a:lnTo>
                        <a:pt x="8230" y="1700"/>
                      </a:lnTo>
                      <a:lnTo>
                        <a:pt x="7654" y="1700"/>
                      </a:lnTo>
                      <a:lnTo>
                        <a:pt x="7654" y="9440"/>
                      </a:lnTo>
                      <a:lnTo>
                        <a:pt x="7654" y="9520"/>
                      </a:lnTo>
                      <a:lnTo>
                        <a:pt x="7610" y="9600"/>
                      </a:lnTo>
                      <a:lnTo>
                        <a:pt x="7566" y="9680"/>
                      </a:lnTo>
                      <a:lnTo>
                        <a:pt x="7477" y="9760"/>
                      </a:lnTo>
                      <a:lnTo>
                        <a:pt x="7345" y="9820"/>
                      </a:lnTo>
                      <a:lnTo>
                        <a:pt x="7256" y="9880"/>
                      </a:lnTo>
                      <a:lnTo>
                        <a:pt x="7123" y="9920"/>
                      </a:lnTo>
                      <a:lnTo>
                        <a:pt x="6991" y="9960"/>
                      </a:lnTo>
                      <a:lnTo>
                        <a:pt x="6858" y="9980"/>
                      </a:lnTo>
                      <a:lnTo>
                        <a:pt x="6725" y="10000"/>
                      </a:lnTo>
                      <a:lnTo>
                        <a:pt x="6637" y="10000"/>
                      </a:lnTo>
                      <a:lnTo>
                        <a:pt x="6504" y="10000"/>
                      </a:lnTo>
                      <a:lnTo>
                        <a:pt x="6371" y="10000"/>
                      </a:lnTo>
                      <a:lnTo>
                        <a:pt x="6238" y="10000"/>
                      </a:lnTo>
                      <a:lnTo>
                        <a:pt x="6061" y="9980"/>
                      </a:lnTo>
                      <a:lnTo>
                        <a:pt x="5884" y="9940"/>
                      </a:lnTo>
                      <a:lnTo>
                        <a:pt x="5752" y="9920"/>
                      </a:lnTo>
                      <a:lnTo>
                        <a:pt x="5663" y="9860"/>
                      </a:lnTo>
                      <a:lnTo>
                        <a:pt x="5619" y="9840"/>
                      </a:lnTo>
                      <a:lnTo>
                        <a:pt x="5530" y="9780"/>
                      </a:lnTo>
                      <a:lnTo>
                        <a:pt x="5442" y="9720"/>
                      </a:lnTo>
                      <a:lnTo>
                        <a:pt x="5398" y="9680"/>
                      </a:lnTo>
                      <a:lnTo>
                        <a:pt x="5353" y="9620"/>
                      </a:lnTo>
                      <a:lnTo>
                        <a:pt x="5309" y="9560"/>
                      </a:lnTo>
                      <a:lnTo>
                        <a:pt x="5309" y="9500"/>
                      </a:lnTo>
                      <a:lnTo>
                        <a:pt x="5309" y="4780"/>
                      </a:lnTo>
                      <a:lnTo>
                        <a:pt x="4690" y="4780"/>
                      </a:lnTo>
                      <a:lnTo>
                        <a:pt x="4690" y="9480"/>
                      </a:lnTo>
                      <a:lnTo>
                        <a:pt x="4646" y="9560"/>
                      </a:lnTo>
                      <a:lnTo>
                        <a:pt x="4646" y="9600"/>
                      </a:lnTo>
                      <a:lnTo>
                        <a:pt x="4557" y="9700"/>
                      </a:lnTo>
                      <a:lnTo>
                        <a:pt x="4469" y="9760"/>
                      </a:lnTo>
                      <a:lnTo>
                        <a:pt x="4380" y="9820"/>
                      </a:lnTo>
                      <a:lnTo>
                        <a:pt x="4292" y="9880"/>
                      </a:lnTo>
                      <a:lnTo>
                        <a:pt x="4159" y="9940"/>
                      </a:lnTo>
                      <a:lnTo>
                        <a:pt x="3982" y="9960"/>
                      </a:lnTo>
                      <a:lnTo>
                        <a:pt x="3761" y="10000"/>
                      </a:lnTo>
                      <a:lnTo>
                        <a:pt x="3584" y="10000"/>
                      </a:lnTo>
                      <a:lnTo>
                        <a:pt x="3407" y="10000"/>
                      </a:lnTo>
                      <a:lnTo>
                        <a:pt x="3274" y="10000"/>
                      </a:lnTo>
                      <a:lnTo>
                        <a:pt x="3141" y="9980"/>
                      </a:lnTo>
                      <a:lnTo>
                        <a:pt x="3053" y="9960"/>
                      </a:lnTo>
                      <a:lnTo>
                        <a:pt x="2920" y="9940"/>
                      </a:lnTo>
                      <a:lnTo>
                        <a:pt x="2787" y="9900"/>
                      </a:lnTo>
                      <a:lnTo>
                        <a:pt x="2654" y="9840"/>
                      </a:lnTo>
                      <a:lnTo>
                        <a:pt x="2610" y="9800"/>
                      </a:lnTo>
                      <a:lnTo>
                        <a:pt x="2522" y="9740"/>
                      </a:lnTo>
                      <a:lnTo>
                        <a:pt x="2433" y="9680"/>
                      </a:lnTo>
                      <a:lnTo>
                        <a:pt x="2433" y="9620"/>
                      </a:lnTo>
                      <a:lnTo>
                        <a:pt x="2389" y="9580"/>
                      </a:lnTo>
                      <a:lnTo>
                        <a:pt x="2345" y="9480"/>
                      </a:lnTo>
                      <a:lnTo>
                        <a:pt x="2345" y="1700"/>
                      </a:lnTo>
                      <a:lnTo>
                        <a:pt x="1769" y="1700"/>
                      </a:lnTo>
                      <a:lnTo>
                        <a:pt x="1769" y="4520"/>
                      </a:lnTo>
                      <a:lnTo>
                        <a:pt x="1769" y="4580"/>
                      </a:lnTo>
                      <a:lnTo>
                        <a:pt x="1725" y="4640"/>
                      </a:lnTo>
                      <a:lnTo>
                        <a:pt x="1681" y="4680"/>
                      </a:lnTo>
                      <a:lnTo>
                        <a:pt x="1592" y="4720"/>
                      </a:lnTo>
                      <a:lnTo>
                        <a:pt x="1592" y="4740"/>
                      </a:lnTo>
                      <a:lnTo>
                        <a:pt x="1548" y="4780"/>
                      </a:lnTo>
                      <a:lnTo>
                        <a:pt x="1460" y="4800"/>
                      </a:lnTo>
                      <a:lnTo>
                        <a:pt x="1415" y="4820"/>
                      </a:lnTo>
                      <a:lnTo>
                        <a:pt x="1327" y="4860"/>
                      </a:lnTo>
                      <a:lnTo>
                        <a:pt x="1238" y="4860"/>
                      </a:lnTo>
                      <a:lnTo>
                        <a:pt x="1150" y="4900"/>
                      </a:lnTo>
                      <a:lnTo>
                        <a:pt x="1061" y="4900"/>
                      </a:lnTo>
                      <a:lnTo>
                        <a:pt x="1017" y="4900"/>
                      </a:lnTo>
                      <a:lnTo>
                        <a:pt x="929" y="4900"/>
                      </a:lnTo>
                      <a:lnTo>
                        <a:pt x="752" y="4900"/>
                      </a:lnTo>
                      <a:lnTo>
                        <a:pt x="707" y="4900"/>
                      </a:lnTo>
                      <a:lnTo>
                        <a:pt x="619" y="4900"/>
                      </a:lnTo>
                      <a:lnTo>
                        <a:pt x="530" y="4880"/>
                      </a:lnTo>
                      <a:lnTo>
                        <a:pt x="486" y="4860"/>
                      </a:lnTo>
                      <a:lnTo>
                        <a:pt x="442" y="4840"/>
                      </a:lnTo>
                      <a:lnTo>
                        <a:pt x="353" y="4820"/>
                      </a:lnTo>
                      <a:lnTo>
                        <a:pt x="309" y="4800"/>
                      </a:lnTo>
                      <a:lnTo>
                        <a:pt x="221" y="4760"/>
                      </a:lnTo>
                      <a:lnTo>
                        <a:pt x="176" y="4720"/>
                      </a:lnTo>
                      <a:lnTo>
                        <a:pt x="132" y="4700"/>
                      </a:lnTo>
                      <a:lnTo>
                        <a:pt x="88" y="4680"/>
                      </a:lnTo>
                      <a:lnTo>
                        <a:pt x="44" y="4620"/>
                      </a:lnTo>
                      <a:lnTo>
                        <a:pt x="44" y="4580"/>
                      </a:lnTo>
                      <a:lnTo>
                        <a:pt x="0" y="4540"/>
                      </a:lnTo>
                      <a:lnTo>
                        <a:pt x="0" y="820"/>
                      </a:lnTo>
                      <a:lnTo>
                        <a:pt x="44" y="680"/>
                      </a:lnTo>
                      <a:lnTo>
                        <a:pt x="88" y="600"/>
                      </a:lnTo>
                      <a:lnTo>
                        <a:pt x="221" y="500"/>
                      </a:lnTo>
                      <a:lnTo>
                        <a:pt x="353" y="440"/>
                      </a:lnTo>
                      <a:lnTo>
                        <a:pt x="486" y="380"/>
                      </a:lnTo>
                      <a:lnTo>
                        <a:pt x="619" y="300"/>
                      </a:lnTo>
                      <a:lnTo>
                        <a:pt x="796" y="240"/>
                      </a:lnTo>
                      <a:lnTo>
                        <a:pt x="1061" y="160"/>
                      </a:lnTo>
                      <a:lnTo>
                        <a:pt x="1238" y="120"/>
                      </a:lnTo>
                      <a:lnTo>
                        <a:pt x="1415" y="100"/>
                      </a:lnTo>
                      <a:lnTo>
                        <a:pt x="1681" y="60"/>
                      </a:lnTo>
                      <a:lnTo>
                        <a:pt x="1902" y="40"/>
                      </a:lnTo>
                      <a:lnTo>
                        <a:pt x="2123" y="20"/>
                      </a:lnTo>
                      <a:lnTo>
                        <a:pt x="238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  <p:sp>
              <p:nvSpPr>
                <p:cNvPr id="119" name="Freeform 22"/>
                <p:cNvSpPr/>
                <p:nvPr/>
              </p:nvSpPr>
              <p:spPr>
                <a:xfrm>
                  <a:off x="3762360" y="3101760"/>
                  <a:ext cx="142200" cy="145800"/>
                </a:xfrm>
                <a:custGeom>
                  <a:avLst/>
                  <a:gdLst>
                    <a:gd name="textAreaLeft" fmla="*/ 0 w 142200"/>
                    <a:gd name="textAreaRight" fmla="*/ 142560 w 142200"/>
                    <a:gd name="textAreaTop" fmla="*/ 0 h 145800"/>
                    <a:gd name="textAreaBottom" fmla="*/ 146160 h 14580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</p:grpSp>
        </p:grpSp>
        <p:grpSp>
          <p:nvGrpSpPr>
            <p:cNvPr id="120" name="Group 23"/>
            <p:cNvGrpSpPr/>
            <p:nvPr/>
          </p:nvGrpSpPr>
          <p:grpSpPr>
            <a:xfrm>
              <a:off x="6492960" y="3057120"/>
              <a:ext cx="1245960" cy="1216080"/>
              <a:chOff x="6492960" y="3057120"/>
              <a:chExt cx="1245960" cy="1216080"/>
            </a:xfrm>
          </p:grpSpPr>
          <p:sp>
            <p:nvSpPr>
              <p:cNvPr id="121" name="Freeform 24"/>
              <p:cNvSpPr/>
              <p:nvPr/>
            </p:nvSpPr>
            <p:spPr>
              <a:xfrm>
                <a:off x="6492960" y="3057120"/>
                <a:ext cx="1245960" cy="121608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209" y="0"/>
                    </a:moveTo>
                    <a:lnTo>
                      <a:pt x="8790" y="0"/>
                    </a:lnTo>
                    <a:cubicBezTo>
                      <a:pt x="9458" y="0"/>
                      <a:pt x="10000" y="555"/>
                      <a:pt x="10000" y="1239"/>
                    </a:cubicBezTo>
                    <a:lnTo>
                      <a:pt x="10000" y="8760"/>
                    </a:lnTo>
                    <a:cubicBezTo>
                      <a:pt x="10000" y="9444"/>
                      <a:pt x="9458" y="10000"/>
                      <a:pt x="8790" y="10000"/>
                    </a:cubicBezTo>
                    <a:lnTo>
                      <a:pt x="1209" y="10000"/>
                    </a:lnTo>
                    <a:cubicBezTo>
                      <a:pt x="541" y="10000"/>
                      <a:pt x="0" y="9444"/>
                      <a:pt x="0" y="8760"/>
                    </a:cubicBezTo>
                    <a:lnTo>
                      <a:pt x="0" y="1239"/>
                    </a:lnTo>
                    <a:cubicBezTo>
                      <a:pt x="0" y="555"/>
                      <a:pt x="541" y="0"/>
                      <a:pt x="1209" y="0"/>
                    </a:cubicBezTo>
                    <a:close/>
                    <a:moveTo>
                      <a:pt x="1209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grpSp>
            <p:nvGrpSpPr>
              <p:cNvPr id="122" name="Group 25"/>
              <p:cNvGrpSpPr/>
              <p:nvPr/>
            </p:nvGrpSpPr>
            <p:grpSpPr>
              <a:xfrm>
                <a:off x="6932160" y="3177720"/>
                <a:ext cx="367920" cy="982800"/>
                <a:chOff x="6932160" y="3177720"/>
                <a:chExt cx="367920" cy="982800"/>
              </a:xfrm>
            </p:grpSpPr>
            <p:sp>
              <p:nvSpPr>
                <p:cNvPr id="123" name="Freeform 26"/>
                <p:cNvSpPr/>
                <p:nvPr/>
              </p:nvSpPr>
              <p:spPr>
                <a:xfrm>
                  <a:off x="6932160" y="3366720"/>
                  <a:ext cx="367920" cy="793800"/>
                </a:xfrm>
                <a:custGeom>
                  <a:avLst/>
                  <a:gdLst>
                    <a:gd name="textAreaLeft" fmla="*/ 0 w 367920"/>
                    <a:gd name="textAreaRight" fmla="*/ 368280 w 367920"/>
                    <a:gd name="textAreaTop" fmla="*/ 0 h 793800"/>
                    <a:gd name="textAreaBottom" fmla="*/ 794160 h 79380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89" y="0"/>
                      </a:moveTo>
                      <a:lnTo>
                        <a:pt x="7654" y="0"/>
                      </a:lnTo>
                      <a:lnTo>
                        <a:pt x="7831" y="0"/>
                      </a:lnTo>
                      <a:lnTo>
                        <a:pt x="7964" y="20"/>
                      </a:lnTo>
                      <a:lnTo>
                        <a:pt x="8097" y="20"/>
                      </a:lnTo>
                      <a:lnTo>
                        <a:pt x="8185" y="40"/>
                      </a:lnTo>
                      <a:lnTo>
                        <a:pt x="8318" y="60"/>
                      </a:lnTo>
                      <a:lnTo>
                        <a:pt x="8495" y="60"/>
                      </a:lnTo>
                      <a:lnTo>
                        <a:pt x="8628" y="80"/>
                      </a:lnTo>
                      <a:lnTo>
                        <a:pt x="8761" y="120"/>
                      </a:lnTo>
                      <a:lnTo>
                        <a:pt x="8849" y="140"/>
                      </a:lnTo>
                      <a:lnTo>
                        <a:pt x="8982" y="160"/>
                      </a:lnTo>
                      <a:lnTo>
                        <a:pt x="9159" y="220"/>
                      </a:lnTo>
                      <a:lnTo>
                        <a:pt x="9292" y="260"/>
                      </a:lnTo>
                      <a:lnTo>
                        <a:pt x="9380" y="300"/>
                      </a:lnTo>
                      <a:lnTo>
                        <a:pt x="9557" y="360"/>
                      </a:lnTo>
                      <a:lnTo>
                        <a:pt x="9646" y="420"/>
                      </a:lnTo>
                      <a:lnTo>
                        <a:pt x="9734" y="480"/>
                      </a:lnTo>
                      <a:lnTo>
                        <a:pt x="9867" y="560"/>
                      </a:lnTo>
                      <a:lnTo>
                        <a:pt x="9911" y="620"/>
                      </a:lnTo>
                      <a:lnTo>
                        <a:pt x="10000" y="700"/>
                      </a:lnTo>
                      <a:lnTo>
                        <a:pt x="10000" y="760"/>
                      </a:lnTo>
                      <a:lnTo>
                        <a:pt x="10000" y="840"/>
                      </a:lnTo>
                      <a:lnTo>
                        <a:pt x="10000" y="4540"/>
                      </a:lnTo>
                      <a:lnTo>
                        <a:pt x="9955" y="4580"/>
                      </a:lnTo>
                      <a:lnTo>
                        <a:pt x="9911" y="4620"/>
                      </a:lnTo>
                      <a:lnTo>
                        <a:pt x="9911" y="4680"/>
                      </a:lnTo>
                      <a:lnTo>
                        <a:pt x="9867" y="4700"/>
                      </a:lnTo>
                      <a:lnTo>
                        <a:pt x="9778" y="4760"/>
                      </a:lnTo>
                      <a:lnTo>
                        <a:pt x="9690" y="4800"/>
                      </a:lnTo>
                      <a:lnTo>
                        <a:pt x="9557" y="4840"/>
                      </a:lnTo>
                      <a:lnTo>
                        <a:pt x="9424" y="4880"/>
                      </a:lnTo>
                      <a:lnTo>
                        <a:pt x="9380" y="4900"/>
                      </a:lnTo>
                      <a:lnTo>
                        <a:pt x="9247" y="4900"/>
                      </a:lnTo>
                      <a:lnTo>
                        <a:pt x="9115" y="4900"/>
                      </a:lnTo>
                      <a:lnTo>
                        <a:pt x="8982" y="4900"/>
                      </a:lnTo>
                      <a:lnTo>
                        <a:pt x="8849" y="4900"/>
                      </a:lnTo>
                      <a:lnTo>
                        <a:pt x="8716" y="4860"/>
                      </a:lnTo>
                      <a:lnTo>
                        <a:pt x="8628" y="4860"/>
                      </a:lnTo>
                      <a:lnTo>
                        <a:pt x="8539" y="4820"/>
                      </a:lnTo>
                      <a:lnTo>
                        <a:pt x="8495" y="4780"/>
                      </a:lnTo>
                      <a:lnTo>
                        <a:pt x="8407" y="4740"/>
                      </a:lnTo>
                      <a:lnTo>
                        <a:pt x="8362" y="4700"/>
                      </a:lnTo>
                      <a:lnTo>
                        <a:pt x="8274" y="4680"/>
                      </a:lnTo>
                      <a:lnTo>
                        <a:pt x="8274" y="4640"/>
                      </a:lnTo>
                      <a:lnTo>
                        <a:pt x="8230" y="4600"/>
                      </a:lnTo>
                      <a:lnTo>
                        <a:pt x="8230" y="4580"/>
                      </a:lnTo>
                      <a:lnTo>
                        <a:pt x="8185" y="4520"/>
                      </a:lnTo>
                      <a:lnTo>
                        <a:pt x="8230" y="1700"/>
                      </a:lnTo>
                      <a:lnTo>
                        <a:pt x="7654" y="1700"/>
                      </a:lnTo>
                      <a:lnTo>
                        <a:pt x="7654" y="9440"/>
                      </a:lnTo>
                      <a:lnTo>
                        <a:pt x="7654" y="9520"/>
                      </a:lnTo>
                      <a:lnTo>
                        <a:pt x="7610" y="9600"/>
                      </a:lnTo>
                      <a:lnTo>
                        <a:pt x="7566" y="9680"/>
                      </a:lnTo>
                      <a:lnTo>
                        <a:pt x="7477" y="9760"/>
                      </a:lnTo>
                      <a:lnTo>
                        <a:pt x="7345" y="9820"/>
                      </a:lnTo>
                      <a:lnTo>
                        <a:pt x="7256" y="9880"/>
                      </a:lnTo>
                      <a:lnTo>
                        <a:pt x="7123" y="9920"/>
                      </a:lnTo>
                      <a:lnTo>
                        <a:pt x="6991" y="9960"/>
                      </a:lnTo>
                      <a:lnTo>
                        <a:pt x="6858" y="9980"/>
                      </a:lnTo>
                      <a:lnTo>
                        <a:pt x="6725" y="10000"/>
                      </a:lnTo>
                      <a:lnTo>
                        <a:pt x="6637" y="10000"/>
                      </a:lnTo>
                      <a:lnTo>
                        <a:pt x="6504" y="10000"/>
                      </a:lnTo>
                      <a:lnTo>
                        <a:pt x="6371" y="10000"/>
                      </a:lnTo>
                      <a:lnTo>
                        <a:pt x="6238" y="10000"/>
                      </a:lnTo>
                      <a:lnTo>
                        <a:pt x="6061" y="9980"/>
                      </a:lnTo>
                      <a:lnTo>
                        <a:pt x="5884" y="9940"/>
                      </a:lnTo>
                      <a:lnTo>
                        <a:pt x="5752" y="9920"/>
                      </a:lnTo>
                      <a:lnTo>
                        <a:pt x="5663" y="9860"/>
                      </a:lnTo>
                      <a:lnTo>
                        <a:pt x="5619" y="9840"/>
                      </a:lnTo>
                      <a:lnTo>
                        <a:pt x="5530" y="9780"/>
                      </a:lnTo>
                      <a:lnTo>
                        <a:pt x="5442" y="9720"/>
                      </a:lnTo>
                      <a:lnTo>
                        <a:pt x="5398" y="9680"/>
                      </a:lnTo>
                      <a:lnTo>
                        <a:pt x="5353" y="9620"/>
                      </a:lnTo>
                      <a:lnTo>
                        <a:pt x="5309" y="9560"/>
                      </a:lnTo>
                      <a:lnTo>
                        <a:pt x="5309" y="9500"/>
                      </a:lnTo>
                      <a:lnTo>
                        <a:pt x="5309" y="4780"/>
                      </a:lnTo>
                      <a:lnTo>
                        <a:pt x="4690" y="4780"/>
                      </a:lnTo>
                      <a:lnTo>
                        <a:pt x="4690" y="9480"/>
                      </a:lnTo>
                      <a:lnTo>
                        <a:pt x="4646" y="9560"/>
                      </a:lnTo>
                      <a:lnTo>
                        <a:pt x="4646" y="9600"/>
                      </a:lnTo>
                      <a:lnTo>
                        <a:pt x="4557" y="9700"/>
                      </a:lnTo>
                      <a:lnTo>
                        <a:pt x="4469" y="9760"/>
                      </a:lnTo>
                      <a:lnTo>
                        <a:pt x="4380" y="9820"/>
                      </a:lnTo>
                      <a:lnTo>
                        <a:pt x="4292" y="9880"/>
                      </a:lnTo>
                      <a:lnTo>
                        <a:pt x="4159" y="9940"/>
                      </a:lnTo>
                      <a:lnTo>
                        <a:pt x="3982" y="9960"/>
                      </a:lnTo>
                      <a:lnTo>
                        <a:pt x="3761" y="10000"/>
                      </a:lnTo>
                      <a:lnTo>
                        <a:pt x="3584" y="10000"/>
                      </a:lnTo>
                      <a:lnTo>
                        <a:pt x="3407" y="10000"/>
                      </a:lnTo>
                      <a:lnTo>
                        <a:pt x="3274" y="10000"/>
                      </a:lnTo>
                      <a:lnTo>
                        <a:pt x="3141" y="9980"/>
                      </a:lnTo>
                      <a:lnTo>
                        <a:pt x="3053" y="9960"/>
                      </a:lnTo>
                      <a:lnTo>
                        <a:pt x="2920" y="9940"/>
                      </a:lnTo>
                      <a:lnTo>
                        <a:pt x="2787" y="9900"/>
                      </a:lnTo>
                      <a:lnTo>
                        <a:pt x="2654" y="9840"/>
                      </a:lnTo>
                      <a:lnTo>
                        <a:pt x="2610" y="9800"/>
                      </a:lnTo>
                      <a:lnTo>
                        <a:pt x="2522" y="9740"/>
                      </a:lnTo>
                      <a:lnTo>
                        <a:pt x="2433" y="9680"/>
                      </a:lnTo>
                      <a:lnTo>
                        <a:pt x="2433" y="9620"/>
                      </a:lnTo>
                      <a:lnTo>
                        <a:pt x="2389" y="9580"/>
                      </a:lnTo>
                      <a:lnTo>
                        <a:pt x="2345" y="9480"/>
                      </a:lnTo>
                      <a:lnTo>
                        <a:pt x="2345" y="1700"/>
                      </a:lnTo>
                      <a:lnTo>
                        <a:pt x="1769" y="1700"/>
                      </a:lnTo>
                      <a:lnTo>
                        <a:pt x="1769" y="4520"/>
                      </a:lnTo>
                      <a:lnTo>
                        <a:pt x="1769" y="4580"/>
                      </a:lnTo>
                      <a:lnTo>
                        <a:pt x="1725" y="4640"/>
                      </a:lnTo>
                      <a:lnTo>
                        <a:pt x="1681" y="4680"/>
                      </a:lnTo>
                      <a:lnTo>
                        <a:pt x="1592" y="4720"/>
                      </a:lnTo>
                      <a:lnTo>
                        <a:pt x="1592" y="4740"/>
                      </a:lnTo>
                      <a:lnTo>
                        <a:pt x="1548" y="4780"/>
                      </a:lnTo>
                      <a:lnTo>
                        <a:pt x="1460" y="4800"/>
                      </a:lnTo>
                      <a:lnTo>
                        <a:pt x="1415" y="4820"/>
                      </a:lnTo>
                      <a:lnTo>
                        <a:pt x="1327" y="4860"/>
                      </a:lnTo>
                      <a:lnTo>
                        <a:pt x="1238" y="4860"/>
                      </a:lnTo>
                      <a:lnTo>
                        <a:pt x="1150" y="4900"/>
                      </a:lnTo>
                      <a:lnTo>
                        <a:pt x="1061" y="4900"/>
                      </a:lnTo>
                      <a:lnTo>
                        <a:pt x="1017" y="4900"/>
                      </a:lnTo>
                      <a:lnTo>
                        <a:pt x="929" y="4900"/>
                      </a:lnTo>
                      <a:lnTo>
                        <a:pt x="752" y="4900"/>
                      </a:lnTo>
                      <a:lnTo>
                        <a:pt x="707" y="4900"/>
                      </a:lnTo>
                      <a:lnTo>
                        <a:pt x="619" y="4900"/>
                      </a:lnTo>
                      <a:lnTo>
                        <a:pt x="530" y="4880"/>
                      </a:lnTo>
                      <a:lnTo>
                        <a:pt x="486" y="4860"/>
                      </a:lnTo>
                      <a:lnTo>
                        <a:pt x="442" y="4840"/>
                      </a:lnTo>
                      <a:lnTo>
                        <a:pt x="353" y="4820"/>
                      </a:lnTo>
                      <a:lnTo>
                        <a:pt x="309" y="4800"/>
                      </a:lnTo>
                      <a:lnTo>
                        <a:pt x="221" y="4760"/>
                      </a:lnTo>
                      <a:lnTo>
                        <a:pt x="176" y="4720"/>
                      </a:lnTo>
                      <a:lnTo>
                        <a:pt x="132" y="4700"/>
                      </a:lnTo>
                      <a:lnTo>
                        <a:pt x="88" y="4680"/>
                      </a:lnTo>
                      <a:lnTo>
                        <a:pt x="44" y="4620"/>
                      </a:lnTo>
                      <a:lnTo>
                        <a:pt x="44" y="4580"/>
                      </a:lnTo>
                      <a:lnTo>
                        <a:pt x="0" y="4540"/>
                      </a:lnTo>
                      <a:lnTo>
                        <a:pt x="0" y="820"/>
                      </a:lnTo>
                      <a:lnTo>
                        <a:pt x="44" y="680"/>
                      </a:lnTo>
                      <a:lnTo>
                        <a:pt x="88" y="600"/>
                      </a:lnTo>
                      <a:lnTo>
                        <a:pt x="221" y="500"/>
                      </a:lnTo>
                      <a:lnTo>
                        <a:pt x="353" y="440"/>
                      </a:lnTo>
                      <a:lnTo>
                        <a:pt x="486" y="380"/>
                      </a:lnTo>
                      <a:lnTo>
                        <a:pt x="619" y="300"/>
                      </a:lnTo>
                      <a:lnTo>
                        <a:pt x="796" y="240"/>
                      </a:lnTo>
                      <a:lnTo>
                        <a:pt x="1061" y="160"/>
                      </a:lnTo>
                      <a:lnTo>
                        <a:pt x="1238" y="120"/>
                      </a:lnTo>
                      <a:lnTo>
                        <a:pt x="1415" y="100"/>
                      </a:lnTo>
                      <a:lnTo>
                        <a:pt x="1681" y="60"/>
                      </a:lnTo>
                      <a:lnTo>
                        <a:pt x="1902" y="40"/>
                      </a:lnTo>
                      <a:lnTo>
                        <a:pt x="2123" y="20"/>
                      </a:lnTo>
                      <a:lnTo>
                        <a:pt x="238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  <p:sp>
              <p:nvSpPr>
                <p:cNvPr id="124" name="Freeform 27"/>
                <p:cNvSpPr/>
                <p:nvPr/>
              </p:nvSpPr>
              <p:spPr>
                <a:xfrm>
                  <a:off x="7036560" y="3177720"/>
                  <a:ext cx="142560" cy="146160"/>
                </a:xfrm>
                <a:custGeom>
                  <a:avLst/>
                  <a:gdLst>
                    <a:gd name="textAreaLeft" fmla="*/ 0 w 142560"/>
                    <a:gd name="textAreaRight" fmla="*/ 142920 w 14256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</p:grpSp>
        </p:grpSp>
      </p:grpSp>
      <p:grpSp>
        <p:nvGrpSpPr>
          <p:cNvPr id="125" name="Group 28"/>
          <p:cNvGrpSpPr/>
          <p:nvPr/>
        </p:nvGrpSpPr>
        <p:grpSpPr>
          <a:xfrm>
            <a:off x="3962520" y="1341360"/>
            <a:ext cx="3467160" cy="1778040"/>
            <a:chOff x="3962520" y="1341360"/>
            <a:chExt cx="3467160" cy="1778040"/>
          </a:xfrm>
        </p:grpSpPr>
        <p:sp>
          <p:nvSpPr>
            <p:cNvPr id="126" name="Freeform 29"/>
            <p:cNvSpPr/>
            <p:nvPr/>
          </p:nvSpPr>
          <p:spPr>
            <a:xfrm>
              <a:off x="3998880" y="2979720"/>
              <a:ext cx="455760" cy="13968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39680"/>
                <a:gd name="textAreaBottom" fmla="*/ 139680 h 139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127" name="Freeform 30"/>
            <p:cNvSpPr/>
            <p:nvPr/>
          </p:nvSpPr>
          <p:spPr>
            <a:xfrm>
              <a:off x="4295880" y="2597040"/>
              <a:ext cx="768240" cy="37008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128" name="Freeform 31"/>
            <p:cNvSpPr/>
            <p:nvPr/>
          </p:nvSpPr>
          <p:spPr>
            <a:xfrm>
              <a:off x="4471920" y="1681200"/>
              <a:ext cx="2957760" cy="979560"/>
            </a:xfrm>
            <a:custGeom>
              <a:avLst/>
              <a:gdLst>
                <a:gd name="textAreaLeft" fmla="*/ 0 w 2957760"/>
                <a:gd name="textAreaRight" fmla="*/ 2958120 w 295776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grpSp>
          <p:nvGrpSpPr>
            <p:cNvPr id="129" name="Group 32"/>
            <p:cNvGrpSpPr/>
            <p:nvPr/>
          </p:nvGrpSpPr>
          <p:grpSpPr>
            <a:xfrm>
              <a:off x="5924520" y="1736640"/>
              <a:ext cx="664920" cy="649080"/>
              <a:chOff x="5924520" y="1736640"/>
              <a:chExt cx="664920" cy="649080"/>
            </a:xfrm>
          </p:grpSpPr>
          <p:sp>
            <p:nvSpPr>
              <p:cNvPr id="130" name="Freeform 33"/>
              <p:cNvSpPr/>
              <p:nvPr/>
            </p:nvSpPr>
            <p:spPr>
              <a:xfrm>
                <a:off x="5924520" y="1736640"/>
                <a:ext cx="664920" cy="64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649080"/>
                  <a:gd name="textAreaBottom" fmla="*/ 649440 h 649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193" y="0"/>
                    </a:moveTo>
                    <a:lnTo>
                      <a:pt x="8806" y="0"/>
                    </a:lnTo>
                    <a:cubicBezTo>
                      <a:pt x="9465" y="0"/>
                      <a:pt x="10000" y="547"/>
                      <a:pt x="10000" y="1222"/>
                    </a:cubicBezTo>
                    <a:lnTo>
                      <a:pt x="10000" y="8777"/>
                    </a:lnTo>
                    <a:cubicBezTo>
                      <a:pt x="10000" y="9452"/>
                      <a:pt x="9465" y="10000"/>
                      <a:pt x="8806" y="10000"/>
                    </a:cubicBezTo>
                    <a:lnTo>
                      <a:pt x="1193" y="10000"/>
                    </a:lnTo>
                    <a:cubicBezTo>
                      <a:pt x="534" y="10000"/>
                      <a:pt x="0" y="9452"/>
                      <a:pt x="0" y="8777"/>
                    </a:cubicBezTo>
                    <a:lnTo>
                      <a:pt x="0" y="1222"/>
                    </a:lnTo>
                    <a:cubicBezTo>
                      <a:pt x="0" y="547"/>
                      <a:pt x="534" y="0"/>
                      <a:pt x="1193" y="0"/>
                    </a:cubicBezTo>
                    <a:close/>
                    <a:moveTo>
                      <a:pt x="1193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grpSp>
            <p:nvGrpSpPr>
              <p:cNvPr id="131" name="Group 34"/>
              <p:cNvGrpSpPr/>
              <p:nvPr/>
            </p:nvGrpSpPr>
            <p:grpSpPr>
              <a:xfrm>
                <a:off x="6161040" y="1798560"/>
                <a:ext cx="193680" cy="528480"/>
                <a:chOff x="6161040" y="1798560"/>
                <a:chExt cx="193680" cy="528480"/>
              </a:xfrm>
            </p:grpSpPr>
            <p:sp>
              <p:nvSpPr>
                <p:cNvPr id="132" name="Freeform 35"/>
                <p:cNvSpPr/>
                <p:nvPr/>
              </p:nvSpPr>
              <p:spPr>
                <a:xfrm>
                  <a:off x="6161040" y="1901520"/>
                  <a:ext cx="193680" cy="42552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425520"/>
                    <a:gd name="textAreaBottom" fmla="*/ 425880 h 4255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52" y="0"/>
                      </a:moveTo>
                      <a:lnTo>
                        <a:pt x="7647" y="0"/>
                      </a:lnTo>
                      <a:lnTo>
                        <a:pt x="7815" y="0"/>
                      </a:lnTo>
                      <a:lnTo>
                        <a:pt x="7983" y="0"/>
                      </a:lnTo>
                      <a:lnTo>
                        <a:pt x="8067" y="0"/>
                      </a:lnTo>
                      <a:lnTo>
                        <a:pt x="8151" y="37"/>
                      </a:lnTo>
                      <a:lnTo>
                        <a:pt x="8319" y="37"/>
                      </a:lnTo>
                      <a:lnTo>
                        <a:pt x="8403" y="37"/>
                      </a:lnTo>
                      <a:lnTo>
                        <a:pt x="8571" y="74"/>
                      </a:lnTo>
                      <a:lnTo>
                        <a:pt x="8739" y="111"/>
                      </a:lnTo>
                      <a:lnTo>
                        <a:pt x="8823" y="111"/>
                      </a:lnTo>
                      <a:lnTo>
                        <a:pt x="8991" y="149"/>
                      </a:lnTo>
                      <a:lnTo>
                        <a:pt x="9159" y="186"/>
                      </a:lnTo>
                      <a:lnTo>
                        <a:pt x="9243" y="223"/>
                      </a:lnTo>
                      <a:lnTo>
                        <a:pt x="9411" y="298"/>
                      </a:lnTo>
                      <a:lnTo>
                        <a:pt x="9495" y="373"/>
                      </a:lnTo>
                      <a:lnTo>
                        <a:pt x="9579" y="410"/>
                      </a:lnTo>
                      <a:lnTo>
                        <a:pt x="9747" y="485"/>
                      </a:lnTo>
                      <a:lnTo>
                        <a:pt x="9831" y="559"/>
                      </a:lnTo>
                      <a:lnTo>
                        <a:pt x="9915" y="634"/>
                      </a:lnTo>
                      <a:lnTo>
                        <a:pt x="10000" y="671"/>
                      </a:lnTo>
                      <a:lnTo>
                        <a:pt x="10000" y="746"/>
                      </a:lnTo>
                      <a:lnTo>
                        <a:pt x="10000" y="820"/>
                      </a:lnTo>
                      <a:lnTo>
                        <a:pt x="10000" y="4552"/>
                      </a:lnTo>
                      <a:lnTo>
                        <a:pt x="9915" y="4589"/>
                      </a:lnTo>
                      <a:lnTo>
                        <a:pt x="9915" y="4626"/>
                      </a:lnTo>
                      <a:lnTo>
                        <a:pt x="9831" y="4701"/>
                      </a:lnTo>
                      <a:lnTo>
                        <a:pt x="9831" y="4738"/>
                      </a:lnTo>
                      <a:lnTo>
                        <a:pt x="9747" y="4776"/>
                      </a:lnTo>
                      <a:lnTo>
                        <a:pt x="9663" y="4813"/>
                      </a:lnTo>
                      <a:lnTo>
                        <a:pt x="9495" y="4850"/>
                      </a:lnTo>
                      <a:lnTo>
                        <a:pt x="9411" y="4888"/>
                      </a:lnTo>
                      <a:lnTo>
                        <a:pt x="9327" y="4925"/>
                      </a:lnTo>
                      <a:lnTo>
                        <a:pt x="9243" y="4925"/>
                      </a:lnTo>
                      <a:lnTo>
                        <a:pt x="9075" y="4925"/>
                      </a:lnTo>
                      <a:lnTo>
                        <a:pt x="8991" y="4925"/>
                      </a:lnTo>
                      <a:lnTo>
                        <a:pt x="8823" y="4925"/>
                      </a:lnTo>
                      <a:lnTo>
                        <a:pt x="8739" y="4888"/>
                      </a:lnTo>
                      <a:lnTo>
                        <a:pt x="8571" y="4888"/>
                      </a:lnTo>
                      <a:lnTo>
                        <a:pt x="8487" y="4850"/>
                      </a:lnTo>
                      <a:lnTo>
                        <a:pt x="8403" y="4813"/>
                      </a:lnTo>
                      <a:lnTo>
                        <a:pt x="8319" y="4776"/>
                      </a:lnTo>
                      <a:lnTo>
                        <a:pt x="8319" y="4738"/>
                      </a:lnTo>
                      <a:lnTo>
                        <a:pt x="8235" y="4701"/>
                      </a:lnTo>
                      <a:lnTo>
                        <a:pt x="8235" y="4664"/>
                      </a:lnTo>
                      <a:lnTo>
                        <a:pt x="8235" y="4626"/>
                      </a:lnTo>
                      <a:lnTo>
                        <a:pt x="8151" y="4589"/>
                      </a:lnTo>
                      <a:lnTo>
                        <a:pt x="8151" y="4552"/>
                      </a:lnTo>
                      <a:lnTo>
                        <a:pt x="8151" y="1679"/>
                      </a:lnTo>
                      <a:lnTo>
                        <a:pt x="7647" y="1679"/>
                      </a:lnTo>
                      <a:lnTo>
                        <a:pt x="7647" y="9440"/>
                      </a:lnTo>
                      <a:lnTo>
                        <a:pt x="7647" y="9514"/>
                      </a:lnTo>
                      <a:lnTo>
                        <a:pt x="7563" y="9589"/>
                      </a:lnTo>
                      <a:lnTo>
                        <a:pt x="7478" y="9701"/>
                      </a:lnTo>
                      <a:lnTo>
                        <a:pt x="7394" y="9776"/>
                      </a:lnTo>
                      <a:lnTo>
                        <a:pt x="7310" y="9813"/>
                      </a:lnTo>
                      <a:lnTo>
                        <a:pt x="7226" y="9888"/>
                      </a:lnTo>
                      <a:lnTo>
                        <a:pt x="7058" y="9925"/>
                      </a:lnTo>
                      <a:lnTo>
                        <a:pt x="6890" y="9962"/>
                      </a:lnTo>
                      <a:lnTo>
                        <a:pt x="6890" y="10000"/>
                      </a:lnTo>
                      <a:lnTo>
                        <a:pt x="6722" y="10000"/>
                      </a:lnTo>
                      <a:lnTo>
                        <a:pt x="6638" y="10000"/>
                      </a:lnTo>
                      <a:lnTo>
                        <a:pt x="6470" y="10000"/>
                      </a:lnTo>
                      <a:lnTo>
                        <a:pt x="6386" y="10000"/>
                      </a:lnTo>
                      <a:lnTo>
                        <a:pt x="6218" y="10000"/>
                      </a:lnTo>
                      <a:lnTo>
                        <a:pt x="5966" y="10000"/>
                      </a:lnTo>
                      <a:lnTo>
                        <a:pt x="5882" y="9962"/>
                      </a:lnTo>
                      <a:lnTo>
                        <a:pt x="5714" y="9925"/>
                      </a:lnTo>
                      <a:lnTo>
                        <a:pt x="5630" y="9888"/>
                      </a:lnTo>
                      <a:lnTo>
                        <a:pt x="5630" y="9850"/>
                      </a:lnTo>
                      <a:lnTo>
                        <a:pt x="5462" y="9776"/>
                      </a:lnTo>
                      <a:lnTo>
                        <a:pt x="5378" y="9701"/>
                      </a:lnTo>
                      <a:lnTo>
                        <a:pt x="5378" y="9664"/>
                      </a:lnTo>
                      <a:lnTo>
                        <a:pt x="5294" y="9626"/>
                      </a:lnTo>
                      <a:lnTo>
                        <a:pt x="5294" y="9552"/>
                      </a:lnTo>
                      <a:lnTo>
                        <a:pt x="5294" y="9514"/>
                      </a:lnTo>
                      <a:lnTo>
                        <a:pt x="5294" y="4813"/>
                      </a:lnTo>
                      <a:lnTo>
                        <a:pt x="4621" y="4813"/>
                      </a:lnTo>
                      <a:lnTo>
                        <a:pt x="4621" y="9477"/>
                      </a:lnTo>
                      <a:lnTo>
                        <a:pt x="4621" y="9552"/>
                      </a:lnTo>
                      <a:lnTo>
                        <a:pt x="4621" y="9626"/>
                      </a:lnTo>
                      <a:lnTo>
                        <a:pt x="4537" y="9701"/>
                      </a:lnTo>
                      <a:lnTo>
                        <a:pt x="4453" y="9776"/>
                      </a:lnTo>
                      <a:lnTo>
                        <a:pt x="4369" y="9850"/>
                      </a:lnTo>
                      <a:lnTo>
                        <a:pt x="4285" y="9888"/>
                      </a:lnTo>
                      <a:lnTo>
                        <a:pt x="4117" y="9925"/>
                      </a:lnTo>
                      <a:lnTo>
                        <a:pt x="3949" y="9962"/>
                      </a:lnTo>
                      <a:lnTo>
                        <a:pt x="3781" y="10000"/>
                      </a:lnTo>
                      <a:lnTo>
                        <a:pt x="3529" y="10000"/>
                      </a:lnTo>
                      <a:lnTo>
                        <a:pt x="3361" y="10000"/>
                      </a:lnTo>
                      <a:lnTo>
                        <a:pt x="3193" y="10000"/>
                      </a:lnTo>
                      <a:lnTo>
                        <a:pt x="3109" y="10000"/>
                      </a:lnTo>
                      <a:lnTo>
                        <a:pt x="3025" y="9962"/>
                      </a:lnTo>
                      <a:lnTo>
                        <a:pt x="2941" y="9925"/>
                      </a:lnTo>
                      <a:lnTo>
                        <a:pt x="2773" y="9888"/>
                      </a:lnTo>
                      <a:lnTo>
                        <a:pt x="2605" y="9850"/>
                      </a:lnTo>
                      <a:lnTo>
                        <a:pt x="2605" y="9813"/>
                      </a:lnTo>
                      <a:lnTo>
                        <a:pt x="2436" y="9738"/>
                      </a:lnTo>
                      <a:lnTo>
                        <a:pt x="2352" y="9701"/>
                      </a:lnTo>
                      <a:lnTo>
                        <a:pt x="2352" y="9626"/>
                      </a:lnTo>
                      <a:lnTo>
                        <a:pt x="2352" y="9589"/>
                      </a:lnTo>
                      <a:lnTo>
                        <a:pt x="2268" y="9477"/>
                      </a:lnTo>
                      <a:lnTo>
                        <a:pt x="2268" y="1679"/>
                      </a:lnTo>
                      <a:lnTo>
                        <a:pt x="1764" y="1679"/>
                      </a:lnTo>
                      <a:lnTo>
                        <a:pt x="1764" y="4552"/>
                      </a:lnTo>
                      <a:lnTo>
                        <a:pt x="1764" y="4589"/>
                      </a:lnTo>
                      <a:lnTo>
                        <a:pt x="1680" y="4664"/>
                      </a:lnTo>
                      <a:lnTo>
                        <a:pt x="1680" y="4701"/>
                      </a:lnTo>
                      <a:lnTo>
                        <a:pt x="1596" y="4738"/>
                      </a:lnTo>
                      <a:lnTo>
                        <a:pt x="1596" y="4776"/>
                      </a:lnTo>
                      <a:lnTo>
                        <a:pt x="1512" y="4813"/>
                      </a:lnTo>
                      <a:lnTo>
                        <a:pt x="1428" y="4813"/>
                      </a:lnTo>
                      <a:lnTo>
                        <a:pt x="1344" y="4850"/>
                      </a:lnTo>
                      <a:lnTo>
                        <a:pt x="1260" y="4888"/>
                      </a:lnTo>
                      <a:lnTo>
                        <a:pt x="1176" y="4888"/>
                      </a:lnTo>
                      <a:lnTo>
                        <a:pt x="1092" y="4925"/>
                      </a:lnTo>
                      <a:lnTo>
                        <a:pt x="1008" y="4925"/>
                      </a:lnTo>
                      <a:lnTo>
                        <a:pt x="924" y="4925"/>
                      </a:lnTo>
                      <a:lnTo>
                        <a:pt x="672" y="4925"/>
                      </a:lnTo>
                      <a:lnTo>
                        <a:pt x="588" y="4925"/>
                      </a:lnTo>
                      <a:lnTo>
                        <a:pt x="504" y="4888"/>
                      </a:lnTo>
                      <a:lnTo>
                        <a:pt x="420" y="4850"/>
                      </a:lnTo>
                      <a:lnTo>
                        <a:pt x="336" y="4850"/>
                      </a:lnTo>
                      <a:lnTo>
                        <a:pt x="252" y="4813"/>
                      </a:lnTo>
                      <a:lnTo>
                        <a:pt x="168" y="4776"/>
                      </a:lnTo>
                      <a:lnTo>
                        <a:pt x="84" y="4738"/>
                      </a:lnTo>
                      <a:lnTo>
                        <a:pt x="84" y="4701"/>
                      </a:lnTo>
                      <a:lnTo>
                        <a:pt x="0" y="4626"/>
                      </a:lnTo>
                      <a:lnTo>
                        <a:pt x="0" y="4589"/>
                      </a:lnTo>
                      <a:lnTo>
                        <a:pt x="0" y="4552"/>
                      </a:lnTo>
                      <a:lnTo>
                        <a:pt x="0" y="783"/>
                      </a:lnTo>
                      <a:lnTo>
                        <a:pt x="0" y="671"/>
                      </a:lnTo>
                      <a:lnTo>
                        <a:pt x="84" y="597"/>
                      </a:lnTo>
                      <a:lnTo>
                        <a:pt x="168" y="485"/>
                      </a:lnTo>
                      <a:lnTo>
                        <a:pt x="336" y="410"/>
                      </a:lnTo>
                      <a:lnTo>
                        <a:pt x="420" y="373"/>
                      </a:lnTo>
                      <a:lnTo>
                        <a:pt x="588" y="298"/>
                      </a:lnTo>
                      <a:lnTo>
                        <a:pt x="756" y="223"/>
                      </a:lnTo>
                      <a:lnTo>
                        <a:pt x="1008" y="149"/>
                      </a:lnTo>
                      <a:lnTo>
                        <a:pt x="1176" y="111"/>
                      </a:lnTo>
                      <a:lnTo>
                        <a:pt x="1344" y="74"/>
                      </a:lnTo>
                      <a:lnTo>
                        <a:pt x="1680" y="37"/>
                      </a:lnTo>
                      <a:lnTo>
                        <a:pt x="1848" y="0"/>
                      </a:lnTo>
                      <a:lnTo>
                        <a:pt x="2100" y="0"/>
                      </a:lnTo>
                      <a:lnTo>
                        <a:pt x="23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  <p:sp>
              <p:nvSpPr>
                <p:cNvPr id="133" name="Freeform 36"/>
                <p:cNvSpPr/>
                <p:nvPr/>
              </p:nvSpPr>
              <p:spPr>
                <a:xfrm>
                  <a:off x="6216480" y="1798560"/>
                  <a:ext cx="71640" cy="727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</p:grpSp>
        </p:grpSp>
        <p:grpSp>
          <p:nvGrpSpPr>
            <p:cNvPr id="134" name="Group 37"/>
            <p:cNvGrpSpPr/>
            <p:nvPr/>
          </p:nvGrpSpPr>
          <p:grpSpPr>
            <a:xfrm>
              <a:off x="6381720" y="1888920"/>
              <a:ext cx="666720" cy="649440"/>
              <a:chOff x="6381720" y="1888920"/>
              <a:chExt cx="666720" cy="649440"/>
            </a:xfrm>
          </p:grpSpPr>
          <p:sp>
            <p:nvSpPr>
              <p:cNvPr id="135" name="Freeform 38"/>
              <p:cNvSpPr/>
              <p:nvPr/>
            </p:nvSpPr>
            <p:spPr>
              <a:xfrm>
                <a:off x="6381720" y="1888920"/>
                <a:ext cx="666720" cy="649440"/>
              </a:xfrm>
              <a:custGeom>
                <a:avLst/>
                <a:gdLst>
                  <a:gd name="textAreaLeft" fmla="*/ 0 w 666720"/>
                  <a:gd name="textAreaRight" fmla="*/ 667080 w 666720"/>
                  <a:gd name="textAreaTop" fmla="*/ 0 h 649440"/>
                  <a:gd name="textAreaBottom" fmla="*/ 649800 h 6494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190" y="0"/>
                    </a:moveTo>
                    <a:lnTo>
                      <a:pt x="8809" y="0"/>
                    </a:lnTo>
                    <a:cubicBezTo>
                      <a:pt x="9466" y="0"/>
                      <a:pt x="10000" y="547"/>
                      <a:pt x="10000" y="1222"/>
                    </a:cubicBezTo>
                    <a:lnTo>
                      <a:pt x="10000" y="8777"/>
                    </a:lnTo>
                    <a:cubicBezTo>
                      <a:pt x="10000" y="9452"/>
                      <a:pt x="9466" y="10000"/>
                      <a:pt x="8809" y="10000"/>
                    </a:cubicBezTo>
                    <a:lnTo>
                      <a:pt x="1190" y="10000"/>
                    </a:lnTo>
                    <a:cubicBezTo>
                      <a:pt x="533" y="10000"/>
                      <a:pt x="0" y="9452"/>
                      <a:pt x="0" y="8777"/>
                    </a:cubicBezTo>
                    <a:lnTo>
                      <a:pt x="0" y="1222"/>
                    </a:lnTo>
                    <a:cubicBezTo>
                      <a:pt x="0" y="547"/>
                      <a:pt x="533" y="0"/>
                      <a:pt x="1190" y="0"/>
                    </a:cubicBezTo>
                    <a:close/>
                    <a:moveTo>
                      <a:pt x="1190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grpSp>
            <p:nvGrpSpPr>
              <p:cNvPr id="136" name="Group 39"/>
              <p:cNvGrpSpPr/>
              <p:nvPr/>
            </p:nvGrpSpPr>
            <p:grpSpPr>
              <a:xfrm>
                <a:off x="6618240" y="1950840"/>
                <a:ext cx="195120" cy="528480"/>
                <a:chOff x="6618240" y="1950840"/>
                <a:chExt cx="195120" cy="528480"/>
              </a:xfrm>
            </p:grpSpPr>
            <p:sp>
              <p:nvSpPr>
                <p:cNvPr id="137" name="Freeform 40"/>
                <p:cNvSpPr/>
                <p:nvPr/>
              </p:nvSpPr>
              <p:spPr>
                <a:xfrm>
                  <a:off x="6618240" y="2054160"/>
                  <a:ext cx="195120" cy="42516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425160"/>
                    <a:gd name="textAreaBottom" fmla="*/ 425520 h 42516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33" y="0"/>
                      </a:moveTo>
                      <a:lnTo>
                        <a:pt x="7666" y="0"/>
                      </a:lnTo>
                      <a:lnTo>
                        <a:pt x="7833" y="0"/>
                      </a:lnTo>
                      <a:lnTo>
                        <a:pt x="7999" y="0"/>
                      </a:lnTo>
                      <a:lnTo>
                        <a:pt x="8083" y="0"/>
                      </a:lnTo>
                      <a:lnTo>
                        <a:pt x="8166" y="37"/>
                      </a:lnTo>
                      <a:lnTo>
                        <a:pt x="8333" y="37"/>
                      </a:lnTo>
                      <a:lnTo>
                        <a:pt x="8416" y="37"/>
                      </a:lnTo>
                      <a:lnTo>
                        <a:pt x="8583" y="74"/>
                      </a:lnTo>
                      <a:lnTo>
                        <a:pt x="8750" y="111"/>
                      </a:lnTo>
                      <a:lnTo>
                        <a:pt x="8833" y="111"/>
                      </a:lnTo>
                      <a:lnTo>
                        <a:pt x="8999" y="149"/>
                      </a:lnTo>
                      <a:lnTo>
                        <a:pt x="9166" y="186"/>
                      </a:lnTo>
                      <a:lnTo>
                        <a:pt x="9249" y="223"/>
                      </a:lnTo>
                      <a:lnTo>
                        <a:pt x="9416" y="298"/>
                      </a:lnTo>
                      <a:lnTo>
                        <a:pt x="9499" y="373"/>
                      </a:lnTo>
                      <a:lnTo>
                        <a:pt x="9583" y="410"/>
                      </a:lnTo>
                      <a:lnTo>
                        <a:pt x="9749" y="485"/>
                      </a:lnTo>
                      <a:lnTo>
                        <a:pt x="9833" y="559"/>
                      </a:lnTo>
                      <a:lnTo>
                        <a:pt x="9916" y="634"/>
                      </a:lnTo>
                      <a:lnTo>
                        <a:pt x="10000" y="671"/>
                      </a:lnTo>
                      <a:lnTo>
                        <a:pt x="10000" y="746"/>
                      </a:lnTo>
                      <a:lnTo>
                        <a:pt x="10000" y="820"/>
                      </a:lnTo>
                      <a:lnTo>
                        <a:pt x="10000" y="4552"/>
                      </a:lnTo>
                      <a:lnTo>
                        <a:pt x="9916" y="4589"/>
                      </a:lnTo>
                      <a:lnTo>
                        <a:pt x="9916" y="4626"/>
                      </a:lnTo>
                      <a:lnTo>
                        <a:pt x="9833" y="4701"/>
                      </a:lnTo>
                      <a:lnTo>
                        <a:pt x="9833" y="4738"/>
                      </a:lnTo>
                      <a:lnTo>
                        <a:pt x="9749" y="4776"/>
                      </a:lnTo>
                      <a:lnTo>
                        <a:pt x="9666" y="4813"/>
                      </a:lnTo>
                      <a:lnTo>
                        <a:pt x="9499" y="4850"/>
                      </a:lnTo>
                      <a:lnTo>
                        <a:pt x="9416" y="4888"/>
                      </a:lnTo>
                      <a:lnTo>
                        <a:pt x="9333" y="4925"/>
                      </a:lnTo>
                      <a:lnTo>
                        <a:pt x="9249" y="4925"/>
                      </a:lnTo>
                      <a:lnTo>
                        <a:pt x="9083" y="4925"/>
                      </a:lnTo>
                      <a:lnTo>
                        <a:pt x="8999" y="4925"/>
                      </a:lnTo>
                      <a:lnTo>
                        <a:pt x="8833" y="4925"/>
                      </a:lnTo>
                      <a:lnTo>
                        <a:pt x="8750" y="4888"/>
                      </a:lnTo>
                      <a:lnTo>
                        <a:pt x="8583" y="4888"/>
                      </a:lnTo>
                      <a:lnTo>
                        <a:pt x="8499" y="4850"/>
                      </a:lnTo>
                      <a:lnTo>
                        <a:pt x="8416" y="4813"/>
                      </a:lnTo>
                      <a:lnTo>
                        <a:pt x="8333" y="4776"/>
                      </a:lnTo>
                      <a:lnTo>
                        <a:pt x="8333" y="4738"/>
                      </a:lnTo>
                      <a:lnTo>
                        <a:pt x="8249" y="4701"/>
                      </a:lnTo>
                      <a:lnTo>
                        <a:pt x="8249" y="4664"/>
                      </a:lnTo>
                      <a:lnTo>
                        <a:pt x="8249" y="4626"/>
                      </a:lnTo>
                      <a:lnTo>
                        <a:pt x="8166" y="4589"/>
                      </a:lnTo>
                      <a:lnTo>
                        <a:pt x="8166" y="4552"/>
                      </a:lnTo>
                      <a:lnTo>
                        <a:pt x="8166" y="1716"/>
                      </a:lnTo>
                      <a:lnTo>
                        <a:pt x="7666" y="1716"/>
                      </a:lnTo>
                      <a:lnTo>
                        <a:pt x="7666" y="9440"/>
                      </a:lnTo>
                      <a:lnTo>
                        <a:pt x="7666" y="9514"/>
                      </a:lnTo>
                      <a:lnTo>
                        <a:pt x="7583" y="9589"/>
                      </a:lnTo>
                      <a:lnTo>
                        <a:pt x="7416" y="9701"/>
                      </a:lnTo>
                      <a:lnTo>
                        <a:pt x="7333" y="9776"/>
                      </a:lnTo>
                      <a:lnTo>
                        <a:pt x="7249" y="9813"/>
                      </a:lnTo>
                      <a:lnTo>
                        <a:pt x="7166" y="9888"/>
                      </a:lnTo>
                      <a:lnTo>
                        <a:pt x="6999" y="9925"/>
                      </a:lnTo>
                      <a:lnTo>
                        <a:pt x="6916" y="9962"/>
                      </a:lnTo>
                      <a:lnTo>
                        <a:pt x="6833" y="10000"/>
                      </a:lnTo>
                      <a:lnTo>
                        <a:pt x="6666" y="10000"/>
                      </a:lnTo>
                      <a:lnTo>
                        <a:pt x="6583" y="10000"/>
                      </a:lnTo>
                      <a:lnTo>
                        <a:pt x="6416" y="10000"/>
                      </a:lnTo>
                      <a:lnTo>
                        <a:pt x="6333" y="10000"/>
                      </a:lnTo>
                      <a:lnTo>
                        <a:pt x="6166" y="10000"/>
                      </a:lnTo>
                      <a:lnTo>
                        <a:pt x="5916" y="10000"/>
                      </a:lnTo>
                      <a:lnTo>
                        <a:pt x="5833" y="9962"/>
                      </a:lnTo>
                      <a:lnTo>
                        <a:pt x="5666" y="9925"/>
                      </a:lnTo>
                      <a:lnTo>
                        <a:pt x="5666" y="9888"/>
                      </a:lnTo>
                      <a:lnTo>
                        <a:pt x="5583" y="9850"/>
                      </a:lnTo>
                      <a:lnTo>
                        <a:pt x="5416" y="9776"/>
                      </a:lnTo>
                      <a:lnTo>
                        <a:pt x="5333" y="9701"/>
                      </a:lnTo>
                      <a:lnTo>
                        <a:pt x="5333" y="9664"/>
                      </a:lnTo>
                      <a:lnTo>
                        <a:pt x="5249" y="9626"/>
                      </a:lnTo>
                      <a:lnTo>
                        <a:pt x="5249" y="9552"/>
                      </a:lnTo>
                      <a:lnTo>
                        <a:pt x="5249" y="9514"/>
                      </a:lnTo>
                      <a:lnTo>
                        <a:pt x="5249" y="4813"/>
                      </a:lnTo>
                      <a:lnTo>
                        <a:pt x="4583" y="4813"/>
                      </a:lnTo>
                      <a:lnTo>
                        <a:pt x="4583" y="9477"/>
                      </a:lnTo>
                      <a:lnTo>
                        <a:pt x="4583" y="9552"/>
                      </a:lnTo>
                      <a:lnTo>
                        <a:pt x="4583" y="9626"/>
                      </a:lnTo>
                      <a:lnTo>
                        <a:pt x="4499" y="9701"/>
                      </a:lnTo>
                      <a:lnTo>
                        <a:pt x="4416" y="9776"/>
                      </a:lnTo>
                      <a:lnTo>
                        <a:pt x="4333" y="9850"/>
                      </a:lnTo>
                      <a:lnTo>
                        <a:pt x="4250" y="9888"/>
                      </a:lnTo>
                      <a:lnTo>
                        <a:pt x="4083" y="9925"/>
                      </a:lnTo>
                      <a:lnTo>
                        <a:pt x="3916" y="9962"/>
                      </a:lnTo>
                      <a:lnTo>
                        <a:pt x="3750" y="10000"/>
                      </a:lnTo>
                      <a:lnTo>
                        <a:pt x="3499" y="10000"/>
                      </a:lnTo>
                      <a:lnTo>
                        <a:pt x="3333" y="10000"/>
                      </a:lnTo>
                      <a:lnTo>
                        <a:pt x="3166" y="10000"/>
                      </a:lnTo>
                      <a:lnTo>
                        <a:pt x="3000" y="9962"/>
                      </a:lnTo>
                      <a:lnTo>
                        <a:pt x="2916" y="9925"/>
                      </a:lnTo>
                      <a:lnTo>
                        <a:pt x="2749" y="9888"/>
                      </a:lnTo>
                      <a:lnTo>
                        <a:pt x="2583" y="9850"/>
                      </a:lnTo>
                      <a:lnTo>
                        <a:pt x="2583" y="9813"/>
                      </a:lnTo>
                      <a:lnTo>
                        <a:pt x="2416" y="9738"/>
                      </a:lnTo>
                      <a:lnTo>
                        <a:pt x="2333" y="9701"/>
                      </a:lnTo>
                      <a:lnTo>
                        <a:pt x="2333" y="9626"/>
                      </a:lnTo>
                      <a:lnTo>
                        <a:pt x="2333" y="9589"/>
                      </a:lnTo>
                      <a:lnTo>
                        <a:pt x="2250" y="9477"/>
                      </a:lnTo>
                      <a:lnTo>
                        <a:pt x="2250" y="1716"/>
                      </a:lnTo>
                      <a:lnTo>
                        <a:pt x="1750" y="1716"/>
                      </a:lnTo>
                      <a:lnTo>
                        <a:pt x="1750" y="4552"/>
                      </a:lnTo>
                      <a:lnTo>
                        <a:pt x="1750" y="4589"/>
                      </a:lnTo>
                      <a:lnTo>
                        <a:pt x="1666" y="4664"/>
                      </a:lnTo>
                      <a:lnTo>
                        <a:pt x="1666" y="4701"/>
                      </a:lnTo>
                      <a:lnTo>
                        <a:pt x="1583" y="4738"/>
                      </a:lnTo>
                      <a:lnTo>
                        <a:pt x="1583" y="4776"/>
                      </a:lnTo>
                      <a:lnTo>
                        <a:pt x="1499" y="4813"/>
                      </a:lnTo>
                      <a:lnTo>
                        <a:pt x="1416" y="4813"/>
                      </a:lnTo>
                      <a:lnTo>
                        <a:pt x="1333" y="4850"/>
                      </a:lnTo>
                      <a:lnTo>
                        <a:pt x="1250" y="4888"/>
                      </a:lnTo>
                      <a:lnTo>
                        <a:pt x="1166" y="4888"/>
                      </a:lnTo>
                      <a:lnTo>
                        <a:pt x="1083" y="4925"/>
                      </a:lnTo>
                      <a:lnTo>
                        <a:pt x="1000" y="4925"/>
                      </a:lnTo>
                      <a:lnTo>
                        <a:pt x="916" y="4925"/>
                      </a:lnTo>
                      <a:lnTo>
                        <a:pt x="666" y="4925"/>
                      </a:lnTo>
                      <a:lnTo>
                        <a:pt x="500" y="4888"/>
                      </a:lnTo>
                      <a:lnTo>
                        <a:pt x="416" y="4850"/>
                      </a:lnTo>
                      <a:lnTo>
                        <a:pt x="333" y="4850"/>
                      </a:lnTo>
                      <a:lnTo>
                        <a:pt x="250" y="4813"/>
                      </a:lnTo>
                      <a:lnTo>
                        <a:pt x="166" y="4776"/>
                      </a:lnTo>
                      <a:lnTo>
                        <a:pt x="83" y="4738"/>
                      </a:lnTo>
                      <a:lnTo>
                        <a:pt x="83" y="4701"/>
                      </a:lnTo>
                      <a:lnTo>
                        <a:pt x="0" y="4626"/>
                      </a:lnTo>
                      <a:lnTo>
                        <a:pt x="0" y="4589"/>
                      </a:lnTo>
                      <a:lnTo>
                        <a:pt x="0" y="4552"/>
                      </a:lnTo>
                      <a:lnTo>
                        <a:pt x="0" y="783"/>
                      </a:lnTo>
                      <a:lnTo>
                        <a:pt x="0" y="671"/>
                      </a:lnTo>
                      <a:lnTo>
                        <a:pt x="83" y="597"/>
                      </a:lnTo>
                      <a:lnTo>
                        <a:pt x="166" y="485"/>
                      </a:lnTo>
                      <a:lnTo>
                        <a:pt x="333" y="410"/>
                      </a:lnTo>
                      <a:lnTo>
                        <a:pt x="416" y="373"/>
                      </a:lnTo>
                      <a:lnTo>
                        <a:pt x="583" y="298"/>
                      </a:lnTo>
                      <a:lnTo>
                        <a:pt x="750" y="223"/>
                      </a:lnTo>
                      <a:lnTo>
                        <a:pt x="1000" y="149"/>
                      </a:lnTo>
                      <a:lnTo>
                        <a:pt x="1166" y="111"/>
                      </a:lnTo>
                      <a:lnTo>
                        <a:pt x="1333" y="74"/>
                      </a:lnTo>
                      <a:lnTo>
                        <a:pt x="1666" y="37"/>
                      </a:lnTo>
                      <a:lnTo>
                        <a:pt x="1916" y="0"/>
                      </a:lnTo>
                      <a:lnTo>
                        <a:pt x="2083" y="0"/>
                      </a:lnTo>
                      <a:lnTo>
                        <a:pt x="233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  <p:sp>
              <p:nvSpPr>
                <p:cNvPr id="138" name="Freeform 41"/>
                <p:cNvSpPr/>
                <p:nvPr/>
              </p:nvSpPr>
              <p:spPr>
                <a:xfrm>
                  <a:off x="6673680" y="1950840"/>
                  <a:ext cx="70920" cy="7308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</p:grpSp>
        </p:grpSp>
        <p:grpSp>
          <p:nvGrpSpPr>
            <p:cNvPr id="139" name="Group 42"/>
            <p:cNvGrpSpPr/>
            <p:nvPr/>
          </p:nvGrpSpPr>
          <p:grpSpPr>
            <a:xfrm>
              <a:off x="4498920" y="1979640"/>
              <a:ext cx="1562040" cy="304560"/>
              <a:chOff x="4498920" y="1979640"/>
              <a:chExt cx="1562040" cy="304560"/>
            </a:xfrm>
          </p:grpSpPr>
          <p:sp>
            <p:nvSpPr>
              <p:cNvPr id="140" name="Freeform 43"/>
              <p:cNvSpPr/>
              <p:nvPr/>
            </p:nvSpPr>
            <p:spPr>
              <a:xfrm>
                <a:off x="4498920" y="1979640"/>
                <a:ext cx="1549440" cy="293400"/>
              </a:xfrm>
              <a:custGeom>
                <a:avLst/>
                <a:gdLst>
                  <a:gd name="textAreaLeft" fmla="*/ 0 w 1549440"/>
                  <a:gd name="textAreaRight" fmla="*/ 1549800 w 15494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2" y="0"/>
                    </a:lnTo>
                    <a:lnTo>
                      <a:pt x="10000" y="0"/>
                    </a:lnTo>
                    <a:lnTo>
                      <a:pt x="6337" y="10000"/>
                    </a:lnTo>
                    <a:lnTo>
                      <a:pt x="0" y="10000"/>
                    </a:lnTo>
                  </a:path>
                </a:pathLst>
              </a:custGeom>
              <a:gradFill rotWithShape="0">
                <a:gsLst>
                  <a:gs pos="0">
                    <a:srgbClr val="e2bdff"/>
                  </a:gs>
                  <a:gs pos="100000">
                    <a:srgbClr val="fd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41" name="Freeform 44"/>
              <p:cNvSpPr/>
              <p:nvPr/>
            </p:nvSpPr>
            <p:spPr>
              <a:xfrm>
                <a:off x="4498920" y="1979640"/>
                <a:ext cx="1562040" cy="304560"/>
              </a:xfrm>
              <a:custGeom>
                <a:avLst/>
                <a:gdLst>
                  <a:gd name="textAreaLeft" fmla="*/ 0 w 1562040"/>
                  <a:gd name="textAreaRight" fmla="*/ 1562400 w 15620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2" y="0"/>
                    </a:lnTo>
                    <a:lnTo>
                      <a:pt x="10000" y="0"/>
                    </a:lnTo>
                    <a:lnTo>
                      <a:pt x="6337" y="10000"/>
                    </a:lnTo>
                    <a:lnTo>
                      <a:pt x="0" y="10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42" name="Group 45"/>
            <p:cNvGrpSpPr/>
            <p:nvPr/>
          </p:nvGrpSpPr>
          <p:grpSpPr>
            <a:xfrm>
              <a:off x="3962520" y="1341360"/>
              <a:ext cx="1971720" cy="642600"/>
              <a:chOff x="3962520" y="1341360"/>
              <a:chExt cx="1971720" cy="642600"/>
            </a:xfrm>
          </p:grpSpPr>
          <p:sp>
            <p:nvSpPr>
              <p:cNvPr id="143" name="Freeform 46"/>
              <p:cNvSpPr/>
              <p:nvPr/>
            </p:nvSpPr>
            <p:spPr>
              <a:xfrm>
                <a:off x="3962520" y="1380960"/>
                <a:ext cx="1971720" cy="363600"/>
              </a:xfrm>
              <a:custGeom>
                <a:avLst/>
                <a:gdLst>
                  <a:gd name="textAreaLeft" fmla="*/ 0 w 1971720"/>
                  <a:gd name="textAreaRight" fmla="*/ 1971720 w 197172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44" name="Text Box 47"/>
              <p:cNvSpPr/>
              <p:nvPr/>
            </p:nvSpPr>
            <p:spPr>
              <a:xfrm>
                <a:off x="3964680" y="1341360"/>
                <a:ext cx="172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Representations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45" name="Group 48"/>
          <p:cNvGrpSpPr/>
          <p:nvPr/>
        </p:nvGrpSpPr>
        <p:grpSpPr>
          <a:xfrm>
            <a:off x="4448160" y="3141720"/>
            <a:ext cx="2187720" cy="642600"/>
            <a:chOff x="4448160" y="3141720"/>
            <a:chExt cx="2187720" cy="642600"/>
          </a:xfrm>
        </p:grpSpPr>
        <p:grpSp>
          <p:nvGrpSpPr>
            <p:cNvPr id="146" name="Group 49"/>
            <p:cNvGrpSpPr/>
            <p:nvPr/>
          </p:nvGrpSpPr>
          <p:grpSpPr>
            <a:xfrm>
              <a:off x="4448160" y="3417480"/>
              <a:ext cx="2181240" cy="285120"/>
              <a:chOff x="4448160" y="3417480"/>
              <a:chExt cx="2181240" cy="285120"/>
            </a:xfrm>
          </p:grpSpPr>
          <p:sp>
            <p:nvSpPr>
              <p:cNvPr id="147" name="Line 50"/>
              <p:cNvSpPr/>
              <p:nvPr/>
            </p:nvSpPr>
            <p:spPr>
              <a:xfrm>
                <a:off x="4448160" y="3417480"/>
                <a:ext cx="1962360" cy="213840"/>
              </a:xfrm>
              <a:prstGeom prst="line">
                <a:avLst/>
              </a:prstGeom>
              <a:ln w="50760">
                <a:solidFill>
                  <a:srgbClr val="12b6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48" name="Freeform 51"/>
              <p:cNvSpPr/>
              <p:nvPr/>
            </p:nvSpPr>
            <p:spPr>
              <a:xfrm>
                <a:off x="6224760" y="3547440"/>
                <a:ext cx="404640" cy="15516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0000" y="8137"/>
                    </a:moveTo>
                    <a:lnTo>
                      <a:pt x="989" y="0"/>
                    </a:lnTo>
                    <a:lnTo>
                      <a:pt x="0" y="10000"/>
                    </a:lnTo>
                    <a:lnTo>
                      <a:pt x="10000" y="8137"/>
                    </a:lnTo>
                  </a:path>
                </a:pathLst>
              </a:custGeom>
              <a:solidFill>
                <a:srgbClr val="12b63d"/>
              </a:solidFill>
              <a:ln w="9360">
                <a:solidFill>
                  <a:srgbClr val="12b6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49" name="Group 52"/>
            <p:cNvGrpSpPr/>
            <p:nvPr/>
          </p:nvGrpSpPr>
          <p:grpSpPr>
            <a:xfrm>
              <a:off x="4727520" y="3141720"/>
              <a:ext cx="1908360" cy="642600"/>
              <a:chOff x="4727520" y="3141720"/>
              <a:chExt cx="1908360" cy="642600"/>
            </a:xfrm>
          </p:grpSpPr>
          <p:sp>
            <p:nvSpPr>
              <p:cNvPr id="150" name="Freeform 53"/>
              <p:cNvSpPr/>
              <p:nvPr/>
            </p:nvSpPr>
            <p:spPr>
              <a:xfrm>
                <a:off x="4727520" y="3171600"/>
                <a:ext cx="1908360" cy="363240"/>
              </a:xfrm>
              <a:custGeom>
                <a:avLst/>
                <a:gdLst>
                  <a:gd name="textAreaLeft" fmla="*/ 0 w 1908360"/>
                  <a:gd name="textAreaRight" fmla="*/ 1908720 w 1908360"/>
                  <a:gd name="textAreaTop" fmla="*/ 0 h 363240"/>
                  <a:gd name="textAreaBottom" fmla="*/ 363600 h 3632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51" name="Text Box 54"/>
              <p:cNvSpPr/>
              <p:nvPr/>
            </p:nvSpPr>
            <p:spPr>
              <a:xfrm>
                <a:off x="4736160" y="3141720"/>
                <a:ext cx="168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2b63d"/>
                    </a:solidFill>
                    <a:latin typeface="Calibri"/>
                    <a:ea typeface="ＭＳ Ｐゴシック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52" name="Group 55"/>
          <p:cNvGrpSpPr/>
          <p:nvPr/>
        </p:nvGrpSpPr>
        <p:grpSpPr>
          <a:xfrm>
            <a:off x="4110120" y="4143240"/>
            <a:ext cx="1103760" cy="1042920"/>
            <a:chOff x="4110120" y="4143240"/>
            <a:chExt cx="1103760" cy="1042920"/>
          </a:xfrm>
        </p:grpSpPr>
        <p:grpSp>
          <p:nvGrpSpPr>
            <p:cNvPr id="153" name="Group 56"/>
            <p:cNvGrpSpPr/>
            <p:nvPr/>
          </p:nvGrpSpPr>
          <p:grpSpPr>
            <a:xfrm>
              <a:off x="4110120" y="4143240"/>
              <a:ext cx="626760" cy="1042920"/>
              <a:chOff x="4110120" y="4143240"/>
              <a:chExt cx="626760" cy="1042920"/>
            </a:xfrm>
          </p:grpSpPr>
          <p:sp>
            <p:nvSpPr>
              <p:cNvPr id="154" name="Line 57"/>
              <p:cNvSpPr/>
              <p:nvPr/>
            </p:nvSpPr>
            <p:spPr>
              <a:xfrm>
                <a:off x="4110120" y="4143240"/>
                <a:ext cx="412560" cy="690480"/>
              </a:xfrm>
              <a:prstGeom prst="line">
                <a:avLst/>
              </a:prstGeom>
              <a:ln w="50760">
                <a:solidFill>
                  <a:srgbClr val="12b6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55" name="Freeform 58"/>
              <p:cNvSpPr/>
              <p:nvPr/>
            </p:nvSpPr>
            <p:spPr>
              <a:xfrm>
                <a:off x="4360680" y="4608360"/>
                <a:ext cx="376200" cy="57780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0000" y="10000"/>
                    </a:moveTo>
                    <a:lnTo>
                      <a:pt x="5063" y="0"/>
                    </a:lnTo>
                    <a:lnTo>
                      <a:pt x="0" y="3965"/>
                    </a:lnTo>
                    <a:lnTo>
                      <a:pt x="10000" y="10000"/>
                    </a:lnTo>
                  </a:path>
                </a:pathLst>
              </a:custGeom>
              <a:solidFill>
                <a:srgbClr val="12b63d"/>
              </a:solidFill>
              <a:ln w="9360">
                <a:solidFill>
                  <a:srgbClr val="12b6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56" name="Group 59"/>
            <p:cNvGrpSpPr/>
            <p:nvPr/>
          </p:nvGrpSpPr>
          <p:grpSpPr>
            <a:xfrm>
              <a:off x="4282920" y="4292280"/>
              <a:ext cx="930960" cy="642600"/>
              <a:chOff x="4282920" y="4292280"/>
              <a:chExt cx="930960" cy="642600"/>
            </a:xfrm>
          </p:grpSpPr>
          <p:sp>
            <p:nvSpPr>
              <p:cNvPr id="157" name="Freeform 60"/>
              <p:cNvSpPr/>
              <p:nvPr/>
            </p:nvSpPr>
            <p:spPr>
              <a:xfrm>
                <a:off x="4282920" y="4352400"/>
                <a:ext cx="892080" cy="363600"/>
              </a:xfrm>
              <a:custGeom>
                <a:avLst/>
                <a:gdLst>
                  <a:gd name="textAreaLeft" fmla="*/ 0 w 892080"/>
                  <a:gd name="textAreaRight" fmla="*/ 892440 w 892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58" name="Text Box 61"/>
              <p:cNvSpPr/>
              <p:nvPr/>
            </p:nvSpPr>
            <p:spPr>
              <a:xfrm>
                <a:off x="4408920" y="4292280"/>
                <a:ext cx="804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2b63d"/>
                    </a:solidFill>
                    <a:latin typeface="Calibri"/>
                    <a:ea typeface="ＭＳ Ｐゴシック"/>
                  </a:rPr>
                  <a:t>Action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59" name="Group 62"/>
          <p:cNvGrpSpPr/>
          <p:nvPr/>
        </p:nvGrpSpPr>
        <p:grpSpPr>
          <a:xfrm>
            <a:off x="2959200" y="4124160"/>
            <a:ext cx="1628280" cy="1210680"/>
            <a:chOff x="2959200" y="4124160"/>
            <a:chExt cx="1628280" cy="1210680"/>
          </a:xfrm>
        </p:grpSpPr>
        <p:grpSp>
          <p:nvGrpSpPr>
            <p:cNvPr id="160" name="Group 63"/>
            <p:cNvGrpSpPr/>
            <p:nvPr/>
          </p:nvGrpSpPr>
          <p:grpSpPr>
            <a:xfrm>
              <a:off x="3749760" y="4124160"/>
              <a:ext cx="837720" cy="1143000"/>
              <a:chOff x="3749760" y="4124160"/>
              <a:chExt cx="837720" cy="1143000"/>
            </a:xfrm>
          </p:grpSpPr>
          <p:sp>
            <p:nvSpPr>
              <p:cNvPr id="161" name="Line 64"/>
              <p:cNvSpPr/>
              <p:nvPr/>
            </p:nvSpPr>
            <p:spPr>
              <a:xfrm>
                <a:off x="4041720" y="4514760"/>
                <a:ext cx="545760" cy="752400"/>
              </a:xfrm>
              <a:prstGeom prst="line">
                <a:avLst/>
              </a:prstGeom>
              <a:ln w="50760">
                <a:solidFill>
                  <a:srgbClr val="2a0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62" name="Freeform 65"/>
              <p:cNvSpPr/>
              <p:nvPr/>
            </p:nvSpPr>
            <p:spPr>
              <a:xfrm>
                <a:off x="3749760" y="4124160"/>
                <a:ext cx="472680" cy="60156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601560"/>
                  <a:gd name="textAreaBottom" fmla="*/ 601560 h 6015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4904" y="10000"/>
                    </a:lnTo>
                    <a:lnTo>
                      <a:pt x="10000" y="59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a0ef6"/>
              </a:solidFill>
              <a:ln w="9360">
                <a:solidFill>
                  <a:srgbClr val="2a0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63" name="Group 66"/>
            <p:cNvGrpSpPr/>
            <p:nvPr/>
          </p:nvGrpSpPr>
          <p:grpSpPr>
            <a:xfrm>
              <a:off x="2959200" y="4647960"/>
              <a:ext cx="1361880" cy="686880"/>
              <a:chOff x="2959200" y="4647960"/>
              <a:chExt cx="1361880" cy="686880"/>
            </a:xfrm>
          </p:grpSpPr>
          <p:sp>
            <p:nvSpPr>
              <p:cNvPr id="164" name="Freeform 67"/>
              <p:cNvSpPr/>
              <p:nvPr/>
            </p:nvSpPr>
            <p:spPr>
              <a:xfrm>
                <a:off x="2959200" y="4647960"/>
                <a:ext cx="1361880" cy="36360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65" name="Text Box 68"/>
              <p:cNvSpPr/>
              <p:nvPr/>
            </p:nvSpPr>
            <p:spPr>
              <a:xfrm>
                <a:off x="2962800" y="4692240"/>
                <a:ext cx="1218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a0ef6"/>
                    </a:solidFill>
                    <a:latin typeface="Calibri"/>
                    <a:ea typeface="ＭＳ Ｐゴシック"/>
                  </a:rPr>
                  <a:t>Perception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66" name="Group 69"/>
          <p:cNvGrpSpPr/>
          <p:nvPr/>
        </p:nvGrpSpPr>
        <p:grpSpPr>
          <a:xfrm>
            <a:off x="4359240" y="3591000"/>
            <a:ext cx="2060640" cy="915480"/>
            <a:chOff x="4359240" y="3591000"/>
            <a:chExt cx="2060640" cy="915480"/>
          </a:xfrm>
        </p:grpSpPr>
        <p:grpSp>
          <p:nvGrpSpPr>
            <p:cNvPr id="167" name="Group 70"/>
            <p:cNvGrpSpPr/>
            <p:nvPr/>
          </p:nvGrpSpPr>
          <p:grpSpPr>
            <a:xfrm>
              <a:off x="4359240" y="3591000"/>
              <a:ext cx="2055960" cy="304920"/>
              <a:chOff x="4359240" y="3591000"/>
              <a:chExt cx="2055960" cy="304920"/>
            </a:xfrm>
          </p:grpSpPr>
          <p:sp>
            <p:nvSpPr>
              <p:cNvPr id="168" name="Line 71"/>
              <p:cNvSpPr/>
              <p:nvPr/>
            </p:nvSpPr>
            <p:spPr>
              <a:xfrm>
                <a:off x="4576680" y="3672000"/>
                <a:ext cx="1838520" cy="223920"/>
              </a:xfrm>
              <a:prstGeom prst="line">
                <a:avLst/>
              </a:prstGeom>
              <a:ln w="50760">
                <a:solidFill>
                  <a:srgbClr val="2a0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69" name="Freeform 72"/>
              <p:cNvSpPr/>
              <p:nvPr/>
            </p:nvSpPr>
            <p:spPr>
              <a:xfrm>
                <a:off x="4359240" y="3591000"/>
                <a:ext cx="376200" cy="157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862"/>
                    </a:moveTo>
                    <a:lnTo>
                      <a:pt x="9010" y="10000"/>
                    </a:lnTo>
                    <a:lnTo>
                      <a:pt x="10000" y="0"/>
                    </a:lnTo>
                    <a:lnTo>
                      <a:pt x="0" y="1862"/>
                    </a:lnTo>
                  </a:path>
                </a:pathLst>
              </a:custGeom>
              <a:solidFill>
                <a:srgbClr val="2a0ef6"/>
              </a:solidFill>
              <a:ln w="9360">
                <a:solidFill>
                  <a:srgbClr val="2a0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70" name="Group 73"/>
            <p:cNvGrpSpPr/>
            <p:nvPr/>
          </p:nvGrpSpPr>
          <p:grpSpPr>
            <a:xfrm>
              <a:off x="4511520" y="3819600"/>
              <a:ext cx="1908360" cy="686880"/>
              <a:chOff x="4511520" y="3819600"/>
              <a:chExt cx="1908360" cy="686880"/>
            </a:xfrm>
          </p:grpSpPr>
          <p:sp>
            <p:nvSpPr>
              <p:cNvPr id="171" name="Freeform 74"/>
              <p:cNvSpPr/>
              <p:nvPr/>
            </p:nvSpPr>
            <p:spPr>
              <a:xfrm>
                <a:off x="4511520" y="3819600"/>
                <a:ext cx="1908360" cy="363600"/>
              </a:xfrm>
              <a:custGeom>
                <a:avLst/>
                <a:gdLst>
                  <a:gd name="textAreaLeft" fmla="*/ 0 w 1908360"/>
                  <a:gd name="textAreaRight" fmla="*/ 1908720 w 190836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72" name="Text Box 75"/>
              <p:cNvSpPr/>
              <p:nvPr/>
            </p:nvSpPr>
            <p:spPr>
              <a:xfrm>
                <a:off x="4520160" y="3863880"/>
                <a:ext cx="168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a0ef6"/>
                    </a:solidFill>
                    <a:latin typeface="Calibri"/>
                    <a:ea typeface="ＭＳ Ｐゴシック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sp>
        <p:nvSpPr>
          <p:cNvPr id="173" name="Text Box 13"/>
          <p:cNvSpPr/>
          <p:nvPr/>
        </p:nvSpPr>
        <p:spPr>
          <a:xfrm>
            <a:off x="428760" y="6521400"/>
            <a:ext cx="228600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eneva"/>
              </a:rPr>
              <a:t>source: Nigel Gilbert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66"/>
                </a:solidFill>
                <a:latin typeface="Calibri"/>
                <a:ea typeface="Geneva"/>
              </a:rPr>
              <a:t>The Sugarscape Model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200" y="2109600"/>
            <a:ext cx="403884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Geneva"/>
              </a:rPr>
              <a:t>Building artificial societies that model certain characteristics of real 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4915080" y="1289160"/>
            <a:ext cx="37652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ＭＳ Ｐゴシック"/>
              </a:rPr>
              <a:t>Cells produce sugar: rule G</a:t>
            </a:r>
            <a:r>
              <a:rPr b="1" lang="en-GB" sz="3000" spc="-1" strike="noStrike" baseline="-25000">
                <a:solidFill>
                  <a:srgbClr val="003366"/>
                </a:solidFill>
                <a:latin typeface="Calibri"/>
                <a:ea typeface="ＭＳ Ｐゴシック"/>
              </a:rPr>
              <a:t>α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78" name="Picture 2" descr="Screen Shot 2013-07-10 at 13.08.20.png"/>
          <p:cNvPicPr/>
          <p:nvPr/>
        </p:nvPicPr>
        <p:blipFill>
          <a:blip r:embed="rId1"/>
          <a:stretch/>
        </p:blipFill>
        <p:spPr>
          <a:xfrm>
            <a:off x="542880" y="1236600"/>
            <a:ext cx="5108760" cy="5072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"/>
          <p:cNvSpPr/>
          <p:nvPr/>
        </p:nvSpPr>
        <p:spPr>
          <a:xfrm>
            <a:off x="5724360" y="1989000"/>
            <a:ext cx="3348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ch cell grows </a:t>
            </a:r>
            <a:r>
              <a:rPr b="1" lang="en-GB" sz="24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units of sugar by time step up to capacity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ＭＳ Ｐゴシック"/>
              </a:rPr>
              <a:t>Sugarscape: Agents consume sugar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81" name="Picture 2" descr="Screen Shot 2013-07-10 at 13.08.20.png"/>
          <p:cNvPicPr/>
          <p:nvPr/>
        </p:nvPicPr>
        <p:blipFill>
          <a:blip r:embed="rId1"/>
          <a:stretch/>
        </p:blipFill>
        <p:spPr>
          <a:xfrm>
            <a:off x="542880" y="1236600"/>
            <a:ext cx="5108760" cy="5072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"/>
          <p:cNvSpPr/>
          <p:nvPr/>
        </p:nvSpPr>
        <p:spPr>
          <a:xfrm>
            <a:off x="5724360" y="1989000"/>
            <a:ext cx="3348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gents look for sugar to eat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gents attributes (age, wealth)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ＭＳ Ｐゴシック"/>
              </a:rPr>
              <a:t>Sugarscape: Simple agen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84" name="Picture 2" descr="Screen Shot 2013-07-10 at 13.08.20.png"/>
          <p:cNvPicPr/>
          <p:nvPr/>
        </p:nvPicPr>
        <p:blipFill>
          <a:blip r:embed="rId1"/>
          <a:stretch/>
        </p:blipFill>
        <p:spPr>
          <a:xfrm>
            <a:off x="542880" y="1236600"/>
            <a:ext cx="5108760" cy="50720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"/>
          <p:cNvSpPr/>
          <p:nvPr/>
        </p:nvSpPr>
        <p:spPr>
          <a:xfrm>
            <a:off x="5724360" y="1989000"/>
            <a:ext cx="33483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ok for a random neighbor 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ves there if it has more sugar than the current cell to eat.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Geneva"/>
              </a:rPr>
              <a:t>Agents carry food with them 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930240" y="1236600"/>
            <a:ext cx="7182000" cy="43084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"/>
          <p:cNvSpPr/>
          <p:nvPr/>
        </p:nvSpPr>
        <p:spPr>
          <a:xfrm>
            <a:off x="1019160" y="5734080"/>
            <a:ext cx="7537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gents have an initial quantity of food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y also carry food that has not been eaten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Geneva"/>
              </a:rPr>
              <a:t>Agent survival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030320" y="5432400"/>
            <a:ext cx="7539120" cy="1325520"/>
          </a:xfrm>
          <a:prstGeom prst="rect">
            <a:avLst/>
          </a:prstGeom>
          <a:solidFill>
            <a:srgbClr val="ebeb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5e"/>
                </a:solidFill>
                <a:latin typeface="Calibri"/>
                <a:ea typeface="Calibri"/>
              </a:rPr>
              <a:t>Agents collect sugar and consume 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5e"/>
                </a:solidFill>
                <a:latin typeface="Calibri"/>
                <a:ea typeface="Calibri"/>
              </a:rPr>
              <a:t>When they have no sugar, they die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476360" y="1131840"/>
            <a:ext cx="5715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Geneva"/>
              </a:rPr>
              <a:t>Agent movement rule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106640" y="1085760"/>
            <a:ext cx="6449760" cy="42735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"/>
          <p:cNvSpPr/>
          <p:nvPr/>
        </p:nvSpPr>
        <p:spPr>
          <a:xfrm>
            <a:off x="1030320" y="5432400"/>
            <a:ext cx="7539120" cy="1325520"/>
          </a:xfrm>
          <a:prstGeom prst="rect">
            <a:avLst/>
          </a:prstGeom>
          <a:solidFill>
            <a:srgbClr val="ebeb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5e"/>
                </a:solidFill>
                <a:latin typeface="Calibri"/>
                <a:ea typeface="Calibri"/>
              </a:rPr>
              <a:t>Look out as far as vision enables – find the closest empty place with the most sugar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5e"/>
                </a:solidFill>
                <a:latin typeface="Calibri"/>
                <a:ea typeface="Calibri"/>
              </a:rPr>
              <a:t>Move there and get all the sugar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8:38:36Z</dcterms:created>
  <dc:creator>Gilberto</dc:creator>
  <dc:description/>
  <cp:keywords/>
  <dc:language>en-US</dc:language>
  <cp:lastModifiedBy>Pedro Andrade</cp:lastModifiedBy>
  <dcterms:modified xsi:type="dcterms:W3CDTF">2016-08-31T17:15:28Z</dcterms:modified>
  <cp:revision>27</cp:revision>
  <dc:subject/>
  <dc:title>Building simple models with TerraME</dc:title>
</cp:coreProperties>
</file>